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33C1-68B8-41D8-AFFC-8EF08CF402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70A2-7CCD-49A4-AFD1-D6EF7374BA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FF05-3222-4E57-845F-F5A980E699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3B49-4A37-4388-901D-859A78EEB8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0F4B-D167-451C-B812-A13C287503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3F3-650B-4837-972E-17A6385BB0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2B2A-25B9-4D51-8E2D-77533753D9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27C-CC88-4B1A-8705-00977651C6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B7A0-7D59-45F3-9E52-671776DCD3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F9A6-B47F-495C-971D-CA19433EBE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6A1C-0025-4526-AB4B-164A7D0037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60C5-71F6-4B2A-84A6-41F9E5E2B3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9925-6BEA-4FCB-A0E0-E4BCFE6CBF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7D5B-58EC-4D39-9327-1C50AA2A05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FCDD-0A0E-4023-BAD2-AE2004E5F2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F550-F5CC-4A41-B910-8ED01F8B3D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0DF0-3F60-4F8D-A1C7-075622E37C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7DA6-D0E5-41DC-B13D-D6F300F5F5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CF59-8ED6-4455-BE5E-71BF6792B4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95C-6F34-418F-966A-16ABD604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1AB-01DF-4F63-B511-59516B23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C52-37BF-4695-9A79-B43A2ECB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90F-9CD7-4335-A8ED-57ED5C4C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B2F-FDDF-4D8D-806A-5DC7C60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9E6-8EFA-4C7C-8AE7-EC5C3A18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5B9-2A7D-4EDF-90C4-ACD5D4E7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D3F-1E57-41D1-99A9-02F55EB2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6C3-E336-47E4-9569-05F05FFC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87E-C10A-478D-8271-F4C7B2F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E2E-66E7-4AA8-8E36-972671C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AF8-9C65-4BFC-97DD-F6EC2F90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74B-7DA7-4A1C-B978-759193DCC3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1.wmf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16360" y="836640"/>
            <a:ext cx="5832360" cy="316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179280" y="115920"/>
            <a:ext cx="5472000" cy="504720"/>
            <a:chOff x="179280" y="115920"/>
            <a:chExt cx="5472000" cy="504720"/>
          </a:xfrm>
        </p:grpSpPr>
        <p:sp>
          <p:nvSpPr>
            <p:cNvPr id="50" name="Text Box 4"/>
            <p:cNvSpPr/>
            <p:nvPr/>
          </p:nvSpPr>
          <p:spPr>
            <a:xfrm>
              <a:off x="182520" y="158760"/>
              <a:ext cx="54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2: DIETA Y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179280" y="115920"/>
              <a:ext cx="53168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6"/>
          <p:cNvSpPr/>
          <p:nvPr/>
        </p:nvSpPr>
        <p:spPr>
          <a:xfrm>
            <a:off x="3419640" y="98100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Alimentos y sus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419640" y="133992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diges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436920" y="16984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di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04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os alimentos y la di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419640" y="239544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Conservación de los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3419640" y="27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tiquetado de los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3419640" y="3105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Alimentación y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3419640" y="346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Alimentos transgé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7" descr="BD08911_"/>
          <p:cNvPicPr/>
          <p:nvPr/>
        </p:nvPicPr>
        <p:blipFill>
          <a:blip r:embed="rId1"/>
          <a:stretch/>
        </p:blipFill>
        <p:spPr>
          <a:xfrm>
            <a:off x="250920" y="2217600"/>
            <a:ext cx="320040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50"/>
          <p:cNvGraphicFramePr/>
          <p:nvPr/>
        </p:nvGraphicFramePr>
        <p:xfrm>
          <a:off x="270000" y="981000"/>
          <a:ext cx="2492280" cy="496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5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00" y="981000"/>
                    <a:ext cx="24922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53" descr=""/>
          <p:cNvPicPr/>
          <p:nvPr/>
        </p:nvPicPr>
        <p:blipFill>
          <a:blip r:embed="rId4"/>
          <a:stretch/>
        </p:blipFill>
        <p:spPr>
          <a:xfrm>
            <a:off x="3564000" y="2496960"/>
            <a:ext cx="49687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2050920" y="29988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ERV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16"/>
          <p:cNvGrpSpPr/>
          <p:nvPr/>
        </p:nvGrpSpPr>
        <p:grpSpPr>
          <a:xfrm>
            <a:off x="533520" y="1871640"/>
            <a:ext cx="2057400" cy="761760"/>
            <a:chOff x="533520" y="1871640"/>
            <a:chExt cx="2057400" cy="761760"/>
          </a:xfrm>
        </p:grpSpPr>
        <p:sp>
          <p:nvSpPr>
            <p:cNvPr id="311" name="AutoShape 117"/>
            <p:cNvSpPr/>
            <p:nvPr/>
          </p:nvSpPr>
          <p:spPr>
            <a:xfrm>
              <a:off x="533520" y="1871640"/>
              <a:ext cx="2057400" cy="761760"/>
            </a:xfrm>
            <a:prstGeom prst="flowChartOnlineStorag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18"/>
            <p:cNvSpPr/>
            <p:nvPr/>
          </p:nvSpPr>
          <p:spPr>
            <a:xfrm>
              <a:off x="546120" y="2055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ALIM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19"/>
          <p:cNvGrpSpPr/>
          <p:nvPr/>
        </p:nvGrpSpPr>
        <p:grpSpPr>
          <a:xfrm>
            <a:off x="6032520" y="1353960"/>
            <a:ext cx="1905120" cy="1676520"/>
            <a:chOff x="6032520" y="1353960"/>
            <a:chExt cx="1905120" cy="1676520"/>
          </a:xfrm>
        </p:grpSpPr>
        <p:sp>
          <p:nvSpPr>
            <p:cNvPr id="314" name="AutoShape 120"/>
            <p:cNvSpPr/>
            <p:nvPr/>
          </p:nvSpPr>
          <p:spPr>
            <a:xfrm>
              <a:off x="6032520" y="1353960"/>
              <a:ext cx="1905120" cy="1676520"/>
            </a:xfrm>
            <a:custGeom>
              <a:avLst/>
              <a:gdLst>
                <a:gd name="textAreaLeft" fmla="*/ 279360 w 1905120"/>
                <a:gd name="textAreaRight" fmla="*/ 1625760 w 1905120"/>
                <a:gd name="textAreaTop" fmla="*/ 245880 h 1676520"/>
                <a:gd name="textAreaBottom" fmla="*/ 14306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21"/>
            <p:cNvSpPr/>
            <p:nvPr/>
          </p:nvSpPr>
          <p:spPr>
            <a:xfrm>
              <a:off x="6108840" y="173520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ALIMENTOS EN MAL 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22"/>
          <p:cNvGrpSpPr/>
          <p:nvPr/>
        </p:nvGrpSpPr>
        <p:grpSpPr>
          <a:xfrm>
            <a:off x="2984400" y="1430280"/>
            <a:ext cx="2590920" cy="1523880"/>
            <a:chOff x="2984400" y="1430280"/>
            <a:chExt cx="2590920" cy="1523880"/>
          </a:xfrm>
        </p:grpSpPr>
        <p:sp>
          <p:nvSpPr>
            <p:cNvPr id="317" name="AutoShape 123"/>
            <p:cNvSpPr/>
            <p:nvPr/>
          </p:nvSpPr>
          <p:spPr>
            <a:xfrm>
              <a:off x="2984400" y="1430280"/>
              <a:ext cx="2590920" cy="152388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380880 h 1523880"/>
                <a:gd name="textAreaBottom" fmla="*/ 114300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24"/>
            <p:cNvSpPr/>
            <p:nvPr/>
          </p:nvSpPr>
          <p:spPr>
            <a:xfrm>
              <a:off x="3365640" y="18730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MICROORGANISM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25"/>
          <p:cNvGrpSpPr/>
          <p:nvPr/>
        </p:nvGrpSpPr>
        <p:grpSpPr>
          <a:xfrm>
            <a:off x="5270400" y="3030480"/>
            <a:ext cx="3505320" cy="1838160"/>
            <a:chOff x="5270400" y="3030480"/>
            <a:chExt cx="3505320" cy="1838160"/>
          </a:xfrm>
        </p:grpSpPr>
        <p:sp>
          <p:nvSpPr>
            <p:cNvPr id="320" name="Cloud"/>
            <p:cNvSpPr/>
            <p:nvPr/>
          </p:nvSpPr>
          <p:spPr>
            <a:xfrm>
              <a:off x="5499000" y="3030480"/>
              <a:ext cx="3124440" cy="1838160"/>
            </a:xfrm>
            <a:custGeom>
              <a:avLst/>
              <a:gdLst>
                <a:gd name="textAreaLeft" fmla="*/ 430200 w 3124440"/>
                <a:gd name="textAreaRight" fmla="*/ 2472120 w 3124440"/>
                <a:gd name="textAreaTop" fmla="*/ 277560 h 1838160"/>
                <a:gd name="textAreaBottom" fmla="*/ 1474560 h 18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27"/>
            <p:cNvSpPr/>
            <p:nvPr/>
          </p:nvSpPr>
          <p:spPr>
            <a:xfrm>
              <a:off x="5270400" y="3259080"/>
              <a:ext cx="350532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Intox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érdida de las propiedades organolép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érdida de nutri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28"/>
          <p:cNvGrpSpPr/>
          <p:nvPr/>
        </p:nvGrpSpPr>
        <p:grpSpPr>
          <a:xfrm>
            <a:off x="3231000" y="2152080"/>
            <a:ext cx="1920600" cy="1705680"/>
            <a:chOff x="3231000" y="2152080"/>
            <a:chExt cx="1920600" cy="1705680"/>
          </a:xfrm>
        </p:grpSpPr>
        <p:sp>
          <p:nvSpPr>
            <p:cNvPr id="323" name="PubOvalCallout"/>
            <p:cNvSpPr/>
            <p:nvPr/>
          </p:nvSpPr>
          <p:spPr>
            <a:xfrm rot="11004000">
              <a:off x="3276720" y="2204640"/>
              <a:ext cx="1828800" cy="1600200"/>
            </a:xfrm>
            <a:custGeom>
              <a:avLst/>
              <a:gdLst>
                <a:gd name="textAreaLeft" fmla="*/ 268200 w 1828800"/>
                <a:gd name="textAreaRight" fmla="*/ 1560600 w 1828800"/>
                <a:gd name="textAreaTop" fmla="*/ 176040 h 1600200"/>
                <a:gd name="textAreaBottom" fmla="*/ 10256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lnTo>
                    <a:pt x="10766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30"/>
            <p:cNvSpPr/>
            <p:nvPr/>
          </p:nvSpPr>
          <p:spPr>
            <a:xfrm>
              <a:off x="3657960" y="2738520"/>
              <a:ext cx="11430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Bacte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Ho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evadu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050920" y="4428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ERV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8"/>
          <p:cNvGrpSpPr/>
          <p:nvPr/>
        </p:nvGrpSpPr>
        <p:grpSpPr>
          <a:xfrm>
            <a:off x="2514600" y="3240000"/>
            <a:ext cx="4038480" cy="1191240"/>
            <a:chOff x="2514600" y="3240000"/>
            <a:chExt cx="4038480" cy="1191240"/>
          </a:xfrm>
        </p:grpSpPr>
        <p:sp>
          <p:nvSpPr>
            <p:cNvPr id="327" name="Rectangle 19"/>
            <p:cNvSpPr/>
            <p:nvPr/>
          </p:nvSpPr>
          <p:spPr>
            <a:xfrm>
              <a:off x="2514600" y="3240000"/>
              <a:ext cx="4038480" cy="761760"/>
            </a:xfrm>
            <a:prstGeom prst="rect">
              <a:avLst/>
            </a:prstGeom>
            <a:solidFill>
              <a:srgbClr val="d5f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0"/>
            <p:cNvSpPr/>
            <p:nvPr/>
          </p:nvSpPr>
          <p:spPr>
            <a:xfrm>
              <a:off x="2666880" y="3240000"/>
              <a:ext cx="381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étodos de conservación de los alim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1"/>
          <p:cNvGrpSpPr/>
          <p:nvPr/>
        </p:nvGrpSpPr>
        <p:grpSpPr>
          <a:xfrm>
            <a:off x="533520" y="2081160"/>
            <a:ext cx="2057400" cy="761760"/>
            <a:chOff x="533520" y="2081160"/>
            <a:chExt cx="2057400" cy="761760"/>
          </a:xfrm>
        </p:grpSpPr>
        <p:sp>
          <p:nvSpPr>
            <p:cNvPr id="330" name="AutoShape 22"/>
            <p:cNvSpPr/>
            <p:nvPr/>
          </p:nvSpPr>
          <p:spPr>
            <a:xfrm>
              <a:off x="533520" y="2081160"/>
              <a:ext cx="2057400" cy="761760"/>
            </a:xfrm>
            <a:prstGeom prst="flowChartOnlineStorag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3"/>
            <p:cNvSpPr/>
            <p:nvPr/>
          </p:nvSpPr>
          <p:spPr>
            <a:xfrm>
              <a:off x="546120" y="22651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ALIM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4"/>
          <p:cNvGrpSpPr/>
          <p:nvPr/>
        </p:nvGrpSpPr>
        <p:grpSpPr>
          <a:xfrm>
            <a:off x="6032520" y="1563840"/>
            <a:ext cx="1905120" cy="1676160"/>
            <a:chOff x="6032520" y="1563840"/>
            <a:chExt cx="1905120" cy="1676160"/>
          </a:xfrm>
        </p:grpSpPr>
        <p:sp>
          <p:nvSpPr>
            <p:cNvPr id="333" name="AutoShape 25"/>
            <p:cNvSpPr/>
            <p:nvPr/>
          </p:nvSpPr>
          <p:spPr>
            <a:xfrm>
              <a:off x="6032520" y="1563840"/>
              <a:ext cx="1905120" cy="1676160"/>
            </a:xfrm>
            <a:custGeom>
              <a:avLst/>
              <a:gdLst>
                <a:gd name="textAreaLeft" fmla="*/ 279360 w 1905120"/>
                <a:gd name="textAreaRight" fmla="*/ 1625760 w 1905120"/>
                <a:gd name="textAreaTop" fmla="*/ 245880 h 1676160"/>
                <a:gd name="textAreaBottom" fmla="*/ 143028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6"/>
            <p:cNvSpPr/>
            <p:nvPr/>
          </p:nvSpPr>
          <p:spPr>
            <a:xfrm>
              <a:off x="6108840" y="194436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ALIMENTOS EN MAL 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7"/>
          <p:cNvGrpSpPr/>
          <p:nvPr/>
        </p:nvGrpSpPr>
        <p:grpSpPr>
          <a:xfrm>
            <a:off x="2984400" y="1639800"/>
            <a:ext cx="2590920" cy="1523880"/>
            <a:chOff x="2984400" y="1639800"/>
            <a:chExt cx="2590920" cy="1523880"/>
          </a:xfrm>
        </p:grpSpPr>
        <p:sp>
          <p:nvSpPr>
            <p:cNvPr id="336" name="AutoShape 28"/>
            <p:cNvSpPr/>
            <p:nvPr/>
          </p:nvSpPr>
          <p:spPr>
            <a:xfrm>
              <a:off x="2984400" y="1639800"/>
              <a:ext cx="2590920" cy="152388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380880 h 1523880"/>
                <a:gd name="textAreaBottom" fmla="*/ 114300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9"/>
            <p:cNvSpPr/>
            <p:nvPr/>
          </p:nvSpPr>
          <p:spPr>
            <a:xfrm>
              <a:off x="3365640" y="22096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MICROORGANISM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0"/>
          <p:cNvGrpSpPr/>
          <p:nvPr/>
        </p:nvGrpSpPr>
        <p:grpSpPr>
          <a:xfrm>
            <a:off x="3395520" y="520200"/>
            <a:ext cx="1920600" cy="1705680"/>
            <a:chOff x="3395520" y="520200"/>
            <a:chExt cx="1920600" cy="1705680"/>
          </a:xfrm>
        </p:grpSpPr>
        <p:sp>
          <p:nvSpPr>
            <p:cNvPr id="339" name="PubOvalCallout"/>
            <p:cNvSpPr/>
            <p:nvPr/>
          </p:nvSpPr>
          <p:spPr>
            <a:xfrm rot="204000">
              <a:off x="3441240" y="572760"/>
              <a:ext cx="1828800" cy="1600200"/>
            </a:xfrm>
            <a:custGeom>
              <a:avLst/>
              <a:gdLst>
                <a:gd name="textAreaLeft" fmla="*/ 268200 w 1828800"/>
                <a:gd name="textAreaRight" fmla="*/ 1560600 w 1828800"/>
                <a:gd name="textAreaTop" fmla="*/ 176040 h 1600200"/>
                <a:gd name="textAreaBottom" fmla="*/ 10256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lnTo>
                    <a:pt x="10766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32"/>
            <p:cNvSpPr/>
            <p:nvPr/>
          </p:nvSpPr>
          <p:spPr>
            <a:xfrm>
              <a:off x="3809880" y="725760"/>
              <a:ext cx="11430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Bacte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Ho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evadu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33"/>
          <p:cNvGrpSpPr/>
          <p:nvPr/>
        </p:nvGrpSpPr>
        <p:grpSpPr>
          <a:xfrm>
            <a:off x="2743200" y="5602320"/>
            <a:ext cx="2133720" cy="609480"/>
            <a:chOff x="2743200" y="5602320"/>
            <a:chExt cx="2133720" cy="609480"/>
          </a:xfrm>
        </p:grpSpPr>
        <p:sp>
          <p:nvSpPr>
            <p:cNvPr id="342" name="Oval 34"/>
            <p:cNvSpPr/>
            <p:nvPr/>
          </p:nvSpPr>
          <p:spPr>
            <a:xfrm>
              <a:off x="2863800" y="5602320"/>
              <a:ext cx="190512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5"/>
            <p:cNvSpPr/>
            <p:nvPr/>
          </p:nvSpPr>
          <p:spPr>
            <a:xfrm>
              <a:off x="2743200" y="5754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DESHIDRA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6"/>
          <p:cNvGrpSpPr/>
          <p:nvPr/>
        </p:nvGrpSpPr>
        <p:grpSpPr>
          <a:xfrm>
            <a:off x="4724280" y="5145120"/>
            <a:ext cx="2133720" cy="609480"/>
            <a:chOff x="4724280" y="5145120"/>
            <a:chExt cx="2133720" cy="609480"/>
          </a:xfrm>
        </p:grpSpPr>
        <p:sp>
          <p:nvSpPr>
            <p:cNvPr id="345" name="Oval 37"/>
            <p:cNvSpPr/>
            <p:nvPr/>
          </p:nvSpPr>
          <p:spPr>
            <a:xfrm>
              <a:off x="4876920" y="5145120"/>
              <a:ext cx="175248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38"/>
            <p:cNvSpPr/>
            <p:nvPr/>
          </p:nvSpPr>
          <p:spPr>
            <a:xfrm>
              <a:off x="4724280" y="52974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DI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9"/>
          <p:cNvGrpSpPr/>
          <p:nvPr/>
        </p:nvGrpSpPr>
        <p:grpSpPr>
          <a:xfrm>
            <a:off x="6400800" y="5678640"/>
            <a:ext cx="2133720" cy="609480"/>
            <a:chOff x="6400800" y="5678640"/>
            <a:chExt cx="2133720" cy="609480"/>
          </a:xfrm>
        </p:grpSpPr>
        <p:sp>
          <p:nvSpPr>
            <p:cNvPr id="348" name="Oval 40"/>
            <p:cNvSpPr/>
            <p:nvPr/>
          </p:nvSpPr>
          <p:spPr>
            <a:xfrm>
              <a:off x="6629400" y="5678640"/>
              <a:ext cx="175248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41"/>
            <p:cNvSpPr/>
            <p:nvPr/>
          </p:nvSpPr>
          <p:spPr>
            <a:xfrm>
              <a:off x="6400800" y="58309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L VACÍ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2"/>
          <p:cNvGrpSpPr/>
          <p:nvPr/>
        </p:nvGrpSpPr>
        <p:grpSpPr>
          <a:xfrm>
            <a:off x="533520" y="5297400"/>
            <a:ext cx="2317680" cy="1371600"/>
            <a:chOff x="533520" y="5297400"/>
            <a:chExt cx="2317680" cy="1371600"/>
          </a:xfrm>
        </p:grpSpPr>
        <p:grpSp>
          <p:nvGrpSpPr>
            <p:cNvPr id="351" name="Group 43"/>
            <p:cNvGrpSpPr/>
            <p:nvPr/>
          </p:nvGrpSpPr>
          <p:grpSpPr>
            <a:xfrm>
              <a:off x="533520" y="5297400"/>
              <a:ext cx="2133360" cy="1371600"/>
              <a:chOff x="533520" y="5297400"/>
              <a:chExt cx="2133360" cy="1371600"/>
            </a:xfrm>
          </p:grpSpPr>
          <p:sp>
            <p:nvSpPr>
              <p:cNvPr id="352" name="Oval 44"/>
              <p:cNvSpPr/>
              <p:nvPr/>
            </p:nvSpPr>
            <p:spPr>
              <a:xfrm>
                <a:off x="762120" y="5297400"/>
                <a:ext cx="1752480" cy="609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45"/>
              <p:cNvSpPr/>
              <p:nvPr/>
            </p:nvSpPr>
            <p:spPr>
              <a:xfrm>
                <a:off x="533520" y="5449680"/>
                <a:ext cx="213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omic Sans MS"/>
                  </a:rPr>
                  <a:t>TEMPERA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46"/>
              <p:cNvSpPr/>
              <p:nvPr/>
            </p:nvSpPr>
            <p:spPr>
              <a:xfrm>
                <a:off x="1371600" y="5830560"/>
                <a:ext cx="838080" cy="838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47"/>
            <p:cNvSpPr/>
            <p:nvPr/>
          </p:nvSpPr>
          <p:spPr>
            <a:xfrm>
              <a:off x="717480" y="5968800"/>
              <a:ext cx="213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a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Frí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6" name="AutoShape 48"/>
          <p:cNvCxnSpPr>
            <a:stCxn id="328" idx="2"/>
            <a:endCxn id="352" idx="0"/>
          </p:cNvCxnSpPr>
          <p:nvPr/>
        </p:nvCxnSpPr>
        <p:spPr>
          <a:xfrm rot="5400000">
            <a:off x="2486880" y="3212640"/>
            <a:ext cx="1235880" cy="2934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AutoShape 49"/>
          <p:cNvCxnSpPr>
            <a:stCxn id="328" idx="2"/>
            <a:endCxn id="342" idx="0"/>
          </p:cNvCxnSpPr>
          <p:nvPr/>
        </p:nvCxnSpPr>
        <p:spPr>
          <a:xfrm rot="5400000">
            <a:off x="3423240" y="4454280"/>
            <a:ext cx="1540800" cy="7563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50"/>
          <p:cNvCxnSpPr>
            <a:stCxn id="328" idx="2"/>
            <a:endCxn id="345" idx="0"/>
          </p:cNvCxnSpPr>
          <p:nvPr/>
        </p:nvCxnSpPr>
        <p:spPr>
          <a:xfrm flipH="1" rot="16200000">
            <a:off x="4620240" y="4012920"/>
            <a:ext cx="108324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AutoShape 51"/>
          <p:cNvCxnSpPr>
            <a:stCxn id="328" idx="2"/>
            <a:endCxn id="348" idx="7"/>
          </p:cNvCxnSpPr>
          <p:nvPr/>
        </p:nvCxnSpPr>
        <p:spPr>
          <a:xfrm flipH="1" rot="16200000">
            <a:off x="5494680" y="3138120"/>
            <a:ext cx="1706040" cy="3553560"/>
          </a:xfrm>
          <a:prstGeom prst="curvedConnector5">
            <a:avLst>
              <a:gd name="adj1" fmla="val 47382"/>
              <a:gd name="adj2" fmla="val 50000"/>
              <a:gd name="adj3" fmla="val 473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0" name="Group 52"/>
          <p:cNvGrpSpPr/>
          <p:nvPr/>
        </p:nvGrpSpPr>
        <p:grpSpPr>
          <a:xfrm>
            <a:off x="3545280" y="1249920"/>
            <a:ext cx="1596240" cy="1761480"/>
            <a:chOff x="3545280" y="1249920"/>
            <a:chExt cx="1596240" cy="1761480"/>
          </a:xfrm>
        </p:grpSpPr>
        <p:sp>
          <p:nvSpPr>
            <p:cNvPr id="361" name="Line 53"/>
            <p:cNvSpPr/>
            <p:nvPr/>
          </p:nvSpPr>
          <p:spPr>
            <a:xfrm>
              <a:off x="3581280" y="1258920"/>
              <a:ext cx="144792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4"/>
            <p:cNvSpPr/>
            <p:nvPr/>
          </p:nvSpPr>
          <p:spPr>
            <a:xfrm flipH="1">
              <a:off x="3545280" y="1249920"/>
              <a:ext cx="1596240" cy="16999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83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2089080" cy="1567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"/>
          <p:cNvSpPr/>
          <p:nvPr/>
        </p:nvSpPr>
        <p:spPr>
          <a:xfrm>
            <a:off x="2050920" y="4428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ERV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40"/>
          <p:cNvGrpSpPr/>
          <p:nvPr/>
        </p:nvGrpSpPr>
        <p:grpSpPr>
          <a:xfrm>
            <a:off x="324000" y="692280"/>
            <a:ext cx="1511280" cy="723600"/>
            <a:chOff x="324000" y="692280"/>
            <a:chExt cx="1511280" cy="723600"/>
          </a:xfrm>
        </p:grpSpPr>
        <p:sp>
          <p:nvSpPr>
            <p:cNvPr id="366" name="Oval 41"/>
            <p:cNvSpPr/>
            <p:nvPr/>
          </p:nvSpPr>
          <p:spPr>
            <a:xfrm>
              <a:off x="324000" y="692280"/>
              <a:ext cx="1462320" cy="723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324000" y="83628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Al vací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43"/>
          <p:cNvGrpSpPr/>
          <p:nvPr/>
        </p:nvGrpSpPr>
        <p:grpSpPr>
          <a:xfrm>
            <a:off x="1915920" y="853920"/>
            <a:ext cx="4239720" cy="824040"/>
            <a:chOff x="1915920" y="853920"/>
            <a:chExt cx="4239720" cy="824040"/>
          </a:xfrm>
        </p:grpSpPr>
        <p:sp>
          <p:nvSpPr>
            <p:cNvPr id="369" name="Text Box 44"/>
            <p:cNvSpPr/>
            <p:nvPr/>
          </p:nvSpPr>
          <p:spPr>
            <a:xfrm>
              <a:off x="3546720" y="853920"/>
              <a:ext cx="2608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 extrae el aire, se retrasa la acción de los gérmene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AutoShape 45"/>
            <p:cNvCxnSpPr>
              <a:stCxn id="367" idx="3"/>
              <a:endCxn id="369" idx="1"/>
            </p:cNvCxnSpPr>
            <p:nvPr/>
          </p:nvCxnSpPr>
          <p:spPr>
            <a:xfrm>
              <a:off x="1915920" y="1112040"/>
              <a:ext cx="1631160" cy="3200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1" name="Group 46"/>
          <p:cNvGrpSpPr/>
          <p:nvPr/>
        </p:nvGrpSpPr>
        <p:grpSpPr>
          <a:xfrm>
            <a:off x="2176560" y="2206800"/>
            <a:ext cx="2441520" cy="914400"/>
            <a:chOff x="2176560" y="2206800"/>
            <a:chExt cx="2441520" cy="914400"/>
          </a:xfrm>
        </p:grpSpPr>
        <p:sp>
          <p:nvSpPr>
            <p:cNvPr id="372" name="Oval 47"/>
            <p:cNvSpPr/>
            <p:nvPr/>
          </p:nvSpPr>
          <p:spPr>
            <a:xfrm>
              <a:off x="2176560" y="2206800"/>
              <a:ext cx="2438280" cy="9144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2255760" y="231480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servación por deshidrat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55"/>
          <p:cNvGrpSpPr/>
          <p:nvPr/>
        </p:nvGrpSpPr>
        <p:grpSpPr>
          <a:xfrm>
            <a:off x="6661080" y="2436840"/>
            <a:ext cx="1690920" cy="380880"/>
            <a:chOff x="6661080" y="2436840"/>
            <a:chExt cx="1690920" cy="380880"/>
          </a:xfrm>
        </p:grpSpPr>
        <p:sp>
          <p:nvSpPr>
            <p:cNvPr id="375" name="AutoShape 56"/>
            <p:cNvSpPr/>
            <p:nvPr/>
          </p:nvSpPr>
          <p:spPr>
            <a:xfrm>
              <a:off x="6661080" y="2436840"/>
              <a:ext cx="1538280" cy="38088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57"/>
            <p:cNvSpPr/>
            <p:nvPr/>
          </p:nvSpPr>
          <p:spPr>
            <a:xfrm>
              <a:off x="6751800" y="2436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Liofi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62"/>
          <p:cNvSpPr/>
          <p:nvPr/>
        </p:nvSpPr>
        <p:spPr>
          <a:xfrm>
            <a:off x="6135840" y="1844640"/>
            <a:ext cx="28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n agua no se desarrollan los 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microorganis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63"/>
          <p:cNvCxnSpPr>
            <a:stCxn id="373" idx="3"/>
            <a:endCxn id="377" idx="1"/>
          </p:cNvCxnSpPr>
          <p:nvPr/>
        </p:nvCxnSpPr>
        <p:spPr>
          <a:xfrm flipV="1">
            <a:off x="4618080" y="2134440"/>
            <a:ext cx="1518480" cy="53100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9" name="Group 64"/>
          <p:cNvGrpSpPr/>
          <p:nvPr/>
        </p:nvGrpSpPr>
        <p:grpSpPr>
          <a:xfrm>
            <a:off x="826920" y="3846600"/>
            <a:ext cx="1584000" cy="590400"/>
            <a:chOff x="826920" y="3846600"/>
            <a:chExt cx="1584000" cy="590400"/>
          </a:xfrm>
        </p:grpSpPr>
        <p:sp>
          <p:nvSpPr>
            <p:cNvPr id="380" name="Oval 65"/>
            <p:cNvSpPr/>
            <p:nvPr/>
          </p:nvSpPr>
          <p:spPr>
            <a:xfrm>
              <a:off x="826920" y="3846600"/>
              <a:ext cx="1582200" cy="5904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6"/>
            <p:cNvSpPr/>
            <p:nvPr/>
          </p:nvSpPr>
          <p:spPr>
            <a:xfrm>
              <a:off x="878040" y="3916080"/>
              <a:ext cx="153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7"/>
          <p:cNvGrpSpPr/>
          <p:nvPr/>
        </p:nvGrpSpPr>
        <p:grpSpPr>
          <a:xfrm>
            <a:off x="4879800" y="3327480"/>
            <a:ext cx="1852200" cy="368280"/>
            <a:chOff x="4879800" y="3327480"/>
            <a:chExt cx="1852200" cy="368280"/>
          </a:xfrm>
        </p:grpSpPr>
        <p:sp>
          <p:nvSpPr>
            <p:cNvPr id="383" name="AutoShape 68"/>
            <p:cNvSpPr/>
            <p:nvPr/>
          </p:nvSpPr>
          <p:spPr>
            <a:xfrm>
              <a:off x="4879800" y="3344760"/>
              <a:ext cx="1722240" cy="30492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69"/>
            <p:cNvSpPr/>
            <p:nvPr/>
          </p:nvSpPr>
          <p:spPr>
            <a:xfrm>
              <a:off x="4904280" y="3327480"/>
              <a:ext cx="182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Esteri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73"/>
          <p:cNvGrpSpPr/>
          <p:nvPr/>
        </p:nvGrpSpPr>
        <p:grpSpPr>
          <a:xfrm>
            <a:off x="4879800" y="4487760"/>
            <a:ext cx="1779480" cy="381240"/>
            <a:chOff x="4879800" y="4487760"/>
            <a:chExt cx="1779480" cy="381240"/>
          </a:xfrm>
        </p:grpSpPr>
        <p:sp>
          <p:nvSpPr>
            <p:cNvPr id="386" name="AutoShape 74"/>
            <p:cNvSpPr/>
            <p:nvPr/>
          </p:nvSpPr>
          <p:spPr>
            <a:xfrm>
              <a:off x="4879800" y="4487760"/>
              <a:ext cx="1618920" cy="38124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75"/>
            <p:cNvSpPr/>
            <p:nvPr/>
          </p:nvSpPr>
          <p:spPr>
            <a:xfrm>
              <a:off x="4975200" y="4487760"/>
              <a:ext cx="16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aster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86"/>
          <p:cNvGrpSpPr/>
          <p:nvPr/>
        </p:nvGrpSpPr>
        <p:grpSpPr>
          <a:xfrm>
            <a:off x="2409480" y="3497040"/>
            <a:ext cx="2470320" cy="1181160"/>
            <a:chOff x="2409480" y="3497040"/>
            <a:chExt cx="2470320" cy="1181160"/>
          </a:xfrm>
        </p:grpSpPr>
        <p:cxnSp>
          <p:nvCxnSpPr>
            <p:cNvPr id="389" name="AutoShape 77"/>
            <p:cNvCxnSpPr>
              <a:stCxn id="380" idx="6"/>
            </p:cNvCxnSpPr>
            <p:nvPr/>
          </p:nvCxnSpPr>
          <p:spPr>
            <a:xfrm flipV="1">
              <a:off x="2409480" y="3497040"/>
              <a:ext cx="2470680" cy="645120"/>
            </a:xfrm>
            <a:prstGeom prst="curvedConnector5">
              <a:avLst>
                <a:gd name="adj1" fmla="val 50000"/>
                <a:gd name="adj2" fmla="val 49972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0" name="AutoShape 79"/>
            <p:cNvCxnSpPr>
              <a:stCxn id="380" idx="6"/>
            </p:cNvCxnSpPr>
            <p:nvPr/>
          </p:nvCxnSpPr>
          <p:spPr>
            <a:xfrm>
              <a:off x="2409480" y="4141800"/>
              <a:ext cx="2470680" cy="536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Text Box 80"/>
          <p:cNvSpPr/>
          <p:nvPr/>
        </p:nvSpPr>
        <p:spPr>
          <a:xfrm>
            <a:off x="6659640" y="3068640"/>
            <a:ext cx="223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110 -120ºC Elimina todos los gérm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1"/>
          <p:cNvSpPr/>
          <p:nvPr/>
        </p:nvSpPr>
        <p:spPr>
          <a:xfrm>
            <a:off x="6659640" y="363996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UHT 135ºC 2´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2"/>
          <p:cNvSpPr/>
          <p:nvPr/>
        </p:nvSpPr>
        <p:spPr>
          <a:xfrm>
            <a:off x="6659640" y="458136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72ºC 15´´ No elimina las esporas de los microorganis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84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5" descr=""/>
          <p:cNvPicPr/>
          <p:nvPr/>
        </p:nvPicPr>
        <p:blipFill>
          <a:blip r:embed="rId3"/>
          <a:stretch/>
        </p:blipFill>
        <p:spPr>
          <a:xfrm>
            <a:off x="1846440" y="4437000"/>
            <a:ext cx="1645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1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486160" cy="1546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0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2068560" cy="26226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2050920" y="4428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ERV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684360" y="1187280"/>
            <a:ext cx="1583640" cy="590760"/>
            <a:chOff x="684360" y="1187280"/>
            <a:chExt cx="1583640" cy="590760"/>
          </a:xfrm>
        </p:grpSpPr>
        <p:sp>
          <p:nvSpPr>
            <p:cNvPr id="400" name="Oval 18"/>
            <p:cNvSpPr/>
            <p:nvPr/>
          </p:nvSpPr>
          <p:spPr>
            <a:xfrm>
              <a:off x="684360" y="1187280"/>
              <a:ext cx="1581840" cy="59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735480" y="1256760"/>
              <a:ext cx="15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Frí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0"/>
          <p:cNvGrpSpPr/>
          <p:nvPr/>
        </p:nvGrpSpPr>
        <p:grpSpPr>
          <a:xfrm>
            <a:off x="4737240" y="668160"/>
            <a:ext cx="1851840" cy="368280"/>
            <a:chOff x="4737240" y="668160"/>
            <a:chExt cx="1851840" cy="368280"/>
          </a:xfrm>
        </p:grpSpPr>
        <p:sp>
          <p:nvSpPr>
            <p:cNvPr id="403" name="AutoShape 21"/>
            <p:cNvSpPr/>
            <p:nvPr/>
          </p:nvSpPr>
          <p:spPr>
            <a:xfrm>
              <a:off x="4737240" y="685440"/>
              <a:ext cx="1721880" cy="30492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2"/>
            <p:cNvSpPr/>
            <p:nvPr/>
          </p:nvSpPr>
          <p:spPr>
            <a:xfrm>
              <a:off x="4761720" y="668160"/>
              <a:ext cx="18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frig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3"/>
          <p:cNvGrpSpPr/>
          <p:nvPr/>
        </p:nvGrpSpPr>
        <p:grpSpPr>
          <a:xfrm>
            <a:off x="4737240" y="1828800"/>
            <a:ext cx="1779120" cy="380880"/>
            <a:chOff x="4737240" y="1828800"/>
            <a:chExt cx="1779120" cy="380880"/>
          </a:xfrm>
        </p:grpSpPr>
        <p:sp>
          <p:nvSpPr>
            <p:cNvPr id="406" name="AutoShape 24"/>
            <p:cNvSpPr/>
            <p:nvPr/>
          </p:nvSpPr>
          <p:spPr>
            <a:xfrm>
              <a:off x="4737240" y="1828800"/>
              <a:ext cx="1618560" cy="38088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5"/>
            <p:cNvSpPr/>
            <p:nvPr/>
          </p:nvSpPr>
          <p:spPr>
            <a:xfrm>
              <a:off x="4832640" y="1828800"/>
              <a:ext cx="168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onge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8" name="AutoShape 26"/>
          <p:cNvCxnSpPr>
            <a:stCxn id="400" idx="6"/>
          </p:cNvCxnSpPr>
          <p:nvPr/>
        </p:nvCxnSpPr>
        <p:spPr>
          <a:xfrm flipV="1">
            <a:off x="2266920" y="837360"/>
            <a:ext cx="2471040" cy="64548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AutoShape 27"/>
          <p:cNvCxnSpPr>
            <a:stCxn id="400" idx="6"/>
          </p:cNvCxnSpPr>
          <p:nvPr/>
        </p:nvCxnSpPr>
        <p:spPr>
          <a:xfrm>
            <a:off x="2266920" y="1482840"/>
            <a:ext cx="2471040" cy="53676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Text Box 28"/>
          <p:cNvSpPr/>
          <p:nvPr/>
        </p:nvSpPr>
        <p:spPr>
          <a:xfrm>
            <a:off x="6516720" y="54936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or encima de 0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0"/>
          <p:cNvSpPr/>
          <p:nvPr/>
        </p:nvSpPr>
        <p:spPr>
          <a:xfrm>
            <a:off x="6516720" y="192240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or debajo de 0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31"/>
          <p:cNvGrpSpPr/>
          <p:nvPr/>
        </p:nvGrpSpPr>
        <p:grpSpPr>
          <a:xfrm>
            <a:off x="5103720" y="3573360"/>
            <a:ext cx="1828800" cy="2286000"/>
            <a:chOff x="5103720" y="3573360"/>
            <a:chExt cx="1828800" cy="2286000"/>
          </a:xfrm>
        </p:grpSpPr>
        <p:sp>
          <p:nvSpPr>
            <p:cNvPr id="413" name="AutoShape 32"/>
            <p:cNvSpPr/>
            <p:nvPr/>
          </p:nvSpPr>
          <p:spPr>
            <a:xfrm>
              <a:off x="5103720" y="3573360"/>
              <a:ext cx="1676160" cy="2286000"/>
            </a:xfrm>
            <a:custGeom>
              <a:avLst/>
              <a:gdLst>
                <a:gd name="textAreaLeft" fmla="*/ 162000 w 1676160"/>
                <a:gd name="textAreaRight" fmla="*/ 1514160 w 1676160"/>
                <a:gd name="textAreaTop" fmla="*/ 162000 h 2286000"/>
                <a:gd name="textAreaBottom" fmla="*/ 2124000 h 2286000"/>
              </a:gdLst>
              <a:ahLst/>
              <a:rect l="textAreaLeft" t="textAreaTop" r="textAreaRight" b="textAreaBottom"/>
              <a:pathLst>
                <a:path w="21600" h="29457">
                  <a:moveTo>
                    <a:pt x="7133" y="0"/>
                  </a:moveTo>
                  <a:arcTo wR="7133" hR="7133" stAng="16200000" swAng="-5400000"/>
                  <a:lnTo>
                    <a:pt x="0" y="22324"/>
                  </a:lnTo>
                  <a:arcTo wR="7133" hR="7133" stAng="10800000" swAng="-5400000"/>
                  <a:lnTo>
                    <a:pt x="14467" y="29457"/>
                  </a:lnTo>
                  <a:arcTo wR="7133" hR="7133" stAng="5400000" swAng="-5400000"/>
                  <a:lnTo>
                    <a:pt x="21600" y="7133"/>
                  </a:lnTo>
                  <a:arcTo wR="7133" hR="7133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3"/>
            <p:cNvSpPr/>
            <p:nvPr/>
          </p:nvSpPr>
          <p:spPr>
            <a:xfrm>
              <a:off x="5256000" y="3649320"/>
              <a:ext cx="1676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Ahumado Salazón Vinagre Azúcar Pimienta Aditivos artific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34"/>
          <p:cNvGrpSpPr/>
          <p:nvPr/>
        </p:nvGrpSpPr>
        <p:grpSpPr>
          <a:xfrm>
            <a:off x="1903320" y="3770280"/>
            <a:ext cx="3200400" cy="945720"/>
            <a:chOff x="1903320" y="3770280"/>
            <a:chExt cx="3200400" cy="945720"/>
          </a:xfrm>
        </p:grpSpPr>
        <p:sp>
          <p:nvSpPr>
            <p:cNvPr id="416" name="Oval 35"/>
            <p:cNvSpPr/>
            <p:nvPr/>
          </p:nvSpPr>
          <p:spPr>
            <a:xfrm>
              <a:off x="1903320" y="3770280"/>
              <a:ext cx="1981080" cy="9140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6"/>
            <p:cNvSpPr/>
            <p:nvPr/>
          </p:nvSpPr>
          <p:spPr>
            <a:xfrm>
              <a:off x="1903320" y="38620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servación con adi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AutoShape 37"/>
            <p:cNvCxnSpPr>
              <a:stCxn id="417" idx="3"/>
              <a:endCxn id="413" idx="1"/>
            </p:cNvCxnSpPr>
            <p:nvPr/>
          </p:nvCxnSpPr>
          <p:spPr>
            <a:xfrm>
              <a:off x="3960360" y="4212720"/>
              <a:ext cx="1143720" cy="503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9" name="Text Box 38"/>
          <p:cNvSpPr/>
          <p:nvPr/>
        </p:nvSpPr>
        <p:spPr>
          <a:xfrm>
            <a:off x="6856560" y="417024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Impiden crecimiento 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microb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2" descr=""/>
          <p:cNvPicPr/>
          <p:nvPr/>
        </p:nvPicPr>
        <p:blipFill>
          <a:blip r:embed="rId3"/>
          <a:stretch/>
        </p:blipFill>
        <p:spPr>
          <a:xfrm>
            <a:off x="3132000" y="4797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3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2050920" y="4284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TIQUETADO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6" descr=""/>
          <p:cNvPicPr/>
          <p:nvPr/>
        </p:nvPicPr>
        <p:blipFill>
          <a:blip r:embed="rId1"/>
          <a:stretch/>
        </p:blipFill>
        <p:spPr>
          <a:xfrm>
            <a:off x="941400" y="549360"/>
            <a:ext cx="6799320" cy="50418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37"/>
          <p:cNvSpPr/>
          <p:nvPr/>
        </p:nvSpPr>
        <p:spPr>
          <a:xfrm>
            <a:off x="2268360" y="59720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infografía. Actividad etiqu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2050920" y="4284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TIQUETADO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37040" y="765000"/>
            <a:ext cx="2514600" cy="1068480"/>
            <a:chOff x="4937040" y="765000"/>
            <a:chExt cx="2514600" cy="1068480"/>
          </a:xfrm>
        </p:grpSpPr>
        <p:sp>
          <p:nvSpPr>
            <p:cNvPr id="426" name="Cloud"/>
            <p:cNvSpPr/>
            <p:nvPr/>
          </p:nvSpPr>
          <p:spPr>
            <a:xfrm>
              <a:off x="4937040" y="765000"/>
              <a:ext cx="2514600" cy="1068480"/>
            </a:xfrm>
            <a:custGeom>
              <a:avLst/>
              <a:gdLst>
                <a:gd name="textAreaLeft" fmla="*/ 345960 w 2514600"/>
                <a:gd name="textAreaRight" fmla="*/ 1989360 w 2514600"/>
                <a:gd name="textAreaTop" fmla="*/ 162000 h 1068480"/>
                <a:gd name="textAreaBottom" fmla="*/ 857520 h 10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7"/>
            <p:cNvSpPr/>
            <p:nvPr/>
          </p:nvSpPr>
          <p:spPr>
            <a:xfrm>
              <a:off x="5241960" y="1071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DITIV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ubRRectCallout"/>
          <p:cNvSpPr/>
          <p:nvPr/>
        </p:nvSpPr>
        <p:spPr>
          <a:xfrm rot="10800000">
            <a:off x="1177920" y="1617480"/>
            <a:ext cx="5562720" cy="3024000"/>
          </a:xfrm>
          <a:custGeom>
            <a:avLst/>
            <a:gdLst>
              <a:gd name="textAreaLeft" fmla="*/ 37080 w 5562720"/>
              <a:gd name="textAreaRight" fmla="*/ 5513760 w 5562720"/>
              <a:gd name="textAreaTop" fmla="*/ 20160 h 3024000"/>
              <a:gd name="textAreaBottom" fmla="*/ 2395080 h 3024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276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1254240" y="2397240"/>
            <a:ext cx="53337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lor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Añaden color, innecesarios dietétic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Antioxid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Impiden oxidación de las gr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spesantes, gelificantes y estabiliz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Mantienen aspecto físico, evitan grietas, cristal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dulcor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Sustituyen a los azúc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serv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Preservan alime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050920" y="18900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LIMENTACIÓN Y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6" descr=""/>
          <p:cNvPicPr/>
          <p:nvPr/>
        </p:nvPicPr>
        <p:blipFill>
          <a:blip r:embed="rId1"/>
          <a:stretch/>
        </p:blipFill>
        <p:spPr>
          <a:xfrm>
            <a:off x="6689880" y="620640"/>
            <a:ext cx="2273040" cy="38880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17"/>
          <p:cNvGrpSpPr/>
          <p:nvPr/>
        </p:nvGrpSpPr>
        <p:grpSpPr>
          <a:xfrm>
            <a:off x="108000" y="1052640"/>
            <a:ext cx="1368000" cy="667800"/>
            <a:chOff x="108000" y="1052640"/>
            <a:chExt cx="1368000" cy="667800"/>
          </a:xfrm>
        </p:grpSpPr>
        <p:sp>
          <p:nvSpPr>
            <p:cNvPr id="433" name="Rectangle 18"/>
            <p:cNvSpPr/>
            <p:nvPr/>
          </p:nvSpPr>
          <p:spPr>
            <a:xfrm>
              <a:off x="234000" y="1052640"/>
              <a:ext cx="1241640" cy="66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9"/>
            <p:cNvSpPr/>
            <p:nvPr/>
          </p:nvSpPr>
          <p:spPr>
            <a:xfrm>
              <a:off x="108000" y="1055160"/>
              <a:ext cx="136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omic Sans MS"/>
                </a:rPr>
                <a:t>HIGIENE D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0"/>
          <p:cNvGrpSpPr/>
          <p:nvPr/>
        </p:nvGrpSpPr>
        <p:grpSpPr>
          <a:xfrm>
            <a:off x="1186920" y="1630440"/>
            <a:ext cx="5209200" cy="934920"/>
            <a:chOff x="1186920" y="1630440"/>
            <a:chExt cx="5209200" cy="934920"/>
          </a:xfrm>
        </p:grpSpPr>
        <p:sp>
          <p:nvSpPr>
            <p:cNvPr id="436" name="AutoShape 21"/>
            <p:cNvSpPr/>
            <p:nvPr/>
          </p:nvSpPr>
          <p:spPr>
            <a:xfrm>
              <a:off x="1863720" y="1654200"/>
              <a:ext cx="4437000" cy="911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2"/>
            <p:cNvSpPr/>
            <p:nvPr/>
          </p:nvSpPr>
          <p:spPr>
            <a:xfrm>
              <a:off x="1835280" y="1630440"/>
              <a:ext cx="456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ri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: Destrucción del esmalte por ácidos producidos por bacterias a partir de restos de los al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AutoShape 23"/>
            <p:cNvCxnSpPr>
              <a:stCxn id="434" idx="3"/>
              <a:endCxn id="436" idx="1"/>
            </p:cNvCxnSpPr>
            <p:nvPr/>
          </p:nvCxnSpPr>
          <p:spPr>
            <a:xfrm>
              <a:off x="1186920" y="1726920"/>
              <a:ext cx="677160" cy="383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39" name="Text Box 24"/>
          <p:cNvSpPr/>
          <p:nvPr/>
        </p:nvSpPr>
        <p:spPr>
          <a:xfrm>
            <a:off x="406440" y="3645000"/>
            <a:ext cx="445284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pillarse los dientes tras cada 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5"/>
          <p:cNvSpPr/>
          <p:nvPr/>
        </p:nvSpPr>
        <p:spPr>
          <a:xfrm>
            <a:off x="393840" y="4005360"/>
            <a:ext cx="648324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consumir habitualmente dulces, ni bebidas azuca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393840" y="4365720"/>
            <a:ext cx="367344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sitar regularmente al den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77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9" dur="770" fill="hold"/>
                                        <p:tgtEl>
                                          <p:spTgt spid="4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1" dur="77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3" dur="77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9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050920" y="18900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LIMENTACIÓN Y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0" y="1052640"/>
            <a:ext cx="1762920" cy="667800"/>
            <a:chOff x="0" y="1052640"/>
            <a:chExt cx="1762920" cy="667800"/>
          </a:xfrm>
        </p:grpSpPr>
        <p:sp>
          <p:nvSpPr>
            <p:cNvPr id="444" name="Rectangle 5"/>
            <p:cNvSpPr/>
            <p:nvPr/>
          </p:nvSpPr>
          <p:spPr>
            <a:xfrm>
              <a:off x="162360" y="1052640"/>
              <a:ext cx="1600200" cy="66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1055160"/>
              <a:ext cx="176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omic Sans MS"/>
                </a:rPr>
                <a:t>HIGIENE ALIMENT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186920" y="1630440"/>
            <a:ext cx="5209200" cy="1342440"/>
            <a:chOff x="1186920" y="1630440"/>
            <a:chExt cx="5209200" cy="1342440"/>
          </a:xfrm>
        </p:grpSpPr>
        <p:sp>
          <p:nvSpPr>
            <p:cNvPr id="447" name="AutoShape 8"/>
            <p:cNvSpPr/>
            <p:nvPr/>
          </p:nvSpPr>
          <p:spPr>
            <a:xfrm>
              <a:off x="1863720" y="1654200"/>
              <a:ext cx="4437000" cy="911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9"/>
            <p:cNvSpPr/>
            <p:nvPr/>
          </p:nvSpPr>
          <p:spPr>
            <a:xfrm>
              <a:off x="1835280" y="1630440"/>
              <a:ext cx="456084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Algunos microorganismos pueden contaminar y poner los alimentos en mal estado, causando intoxic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9" name="AutoShape 10"/>
            <p:cNvCxnSpPr>
              <a:stCxn id="445" idx="3"/>
              <a:endCxn id="447" idx="1"/>
            </p:cNvCxnSpPr>
            <p:nvPr/>
          </p:nvCxnSpPr>
          <p:spPr>
            <a:xfrm>
              <a:off x="1186920" y="1726920"/>
              <a:ext cx="677160" cy="383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Text Box 11"/>
          <p:cNvSpPr/>
          <p:nvPr/>
        </p:nvSpPr>
        <p:spPr>
          <a:xfrm>
            <a:off x="406440" y="3645000"/>
            <a:ext cx="632628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varse las manos antes de comer o manipular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93840" y="4005360"/>
            <a:ext cx="569088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ner limpios utensilios y lugar donde se co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393840" y="4365720"/>
            <a:ext cx="590688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ervar los alimentos a la temperatura 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395280" y="4726080"/>
            <a:ext cx="799308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mir los alimentos antes de 2 h y guardar lo que sobre en la ne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395280" y="5084640"/>
            <a:ext cx="7993080" cy="28764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consumir alimentos tras la fecha de cadu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6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2440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2050920" y="4284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LIMENTOS TRANSGÉ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1" descr=""/>
          <p:cNvPicPr/>
          <p:nvPr/>
        </p:nvPicPr>
        <p:blipFill>
          <a:blip r:embed="rId1"/>
          <a:stretch/>
        </p:blipFill>
        <p:spPr>
          <a:xfrm>
            <a:off x="1014480" y="1844640"/>
            <a:ext cx="7229520" cy="44211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32"/>
          <p:cNvGrpSpPr/>
          <p:nvPr/>
        </p:nvGrpSpPr>
        <p:grpSpPr>
          <a:xfrm>
            <a:off x="34920" y="620640"/>
            <a:ext cx="9433800" cy="432000"/>
            <a:chOff x="34920" y="620640"/>
            <a:chExt cx="9433800" cy="432000"/>
          </a:xfrm>
        </p:grpSpPr>
        <p:sp>
          <p:nvSpPr>
            <p:cNvPr id="459" name="AutoShape 33"/>
            <p:cNvSpPr/>
            <p:nvPr/>
          </p:nvSpPr>
          <p:spPr>
            <a:xfrm>
              <a:off x="34920" y="620640"/>
              <a:ext cx="8962200" cy="4320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4"/>
            <p:cNvSpPr/>
            <p:nvPr/>
          </p:nvSpPr>
          <p:spPr>
            <a:xfrm>
              <a:off x="34920" y="661320"/>
              <a:ext cx="9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rganismo transgénico: se le ha introducido información genética de otro ser vi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35"/>
          <p:cNvGrpSpPr/>
          <p:nvPr/>
        </p:nvGrpSpPr>
        <p:grpSpPr>
          <a:xfrm>
            <a:off x="34920" y="1197000"/>
            <a:ext cx="8713440" cy="431640"/>
            <a:chOff x="34920" y="1197000"/>
            <a:chExt cx="8713440" cy="431640"/>
          </a:xfrm>
        </p:grpSpPr>
        <p:sp>
          <p:nvSpPr>
            <p:cNvPr id="462" name="AutoShape 36"/>
            <p:cNvSpPr/>
            <p:nvPr/>
          </p:nvSpPr>
          <p:spPr>
            <a:xfrm>
              <a:off x="34920" y="1197000"/>
              <a:ext cx="8277480" cy="4316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7"/>
            <p:cNvSpPr/>
            <p:nvPr/>
          </p:nvSpPr>
          <p:spPr>
            <a:xfrm>
              <a:off x="34920" y="1237680"/>
              <a:ext cx="87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Alimentos transgénicos: contienen organismos transgénicos o sus deriv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38"/>
          <p:cNvSpPr/>
          <p:nvPr/>
        </p:nvSpPr>
        <p:spPr>
          <a:xfrm>
            <a:off x="2268360" y="62118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infograf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9"/>
          <p:cNvGrpSpPr/>
          <p:nvPr/>
        </p:nvGrpSpPr>
        <p:grpSpPr>
          <a:xfrm>
            <a:off x="250920" y="909720"/>
            <a:ext cx="1944720" cy="459720"/>
            <a:chOff x="250920" y="909720"/>
            <a:chExt cx="1944720" cy="459720"/>
          </a:xfrm>
        </p:grpSpPr>
        <p:sp>
          <p:nvSpPr>
            <p:cNvPr id="66" name="Rectangle 150"/>
            <p:cNvSpPr/>
            <p:nvPr/>
          </p:nvSpPr>
          <p:spPr>
            <a:xfrm>
              <a:off x="250920" y="909720"/>
              <a:ext cx="194472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51"/>
            <p:cNvSpPr/>
            <p:nvPr/>
          </p:nvSpPr>
          <p:spPr>
            <a:xfrm>
              <a:off x="400680" y="909720"/>
              <a:ext cx="164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lim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52"/>
          <p:cNvGrpSpPr/>
          <p:nvPr/>
        </p:nvGrpSpPr>
        <p:grpSpPr>
          <a:xfrm>
            <a:off x="6157800" y="741240"/>
            <a:ext cx="2590920" cy="631440"/>
            <a:chOff x="6157800" y="741240"/>
            <a:chExt cx="2590920" cy="631440"/>
          </a:xfrm>
        </p:grpSpPr>
        <p:sp>
          <p:nvSpPr>
            <p:cNvPr id="69" name="AutoShape 153"/>
            <p:cNvSpPr/>
            <p:nvPr/>
          </p:nvSpPr>
          <p:spPr>
            <a:xfrm>
              <a:off x="6157800" y="779040"/>
              <a:ext cx="990720" cy="228600"/>
            </a:xfrm>
            <a:custGeom>
              <a:avLst/>
              <a:gdLst>
                <a:gd name="textAreaLeft" fmla="*/ 155520 w 990720"/>
                <a:gd name="textAreaRight" fmla="*/ 866880 w 99072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54"/>
            <p:cNvSpPr/>
            <p:nvPr/>
          </p:nvSpPr>
          <p:spPr>
            <a:xfrm>
              <a:off x="7148520" y="741240"/>
              <a:ext cx="16002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55"/>
          <p:cNvGrpSpPr/>
          <p:nvPr/>
        </p:nvGrpSpPr>
        <p:grpSpPr>
          <a:xfrm>
            <a:off x="6176880" y="1055520"/>
            <a:ext cx="2571840" cy="955800"/>
            <a:chOff x="6176880" y="1055520"/>
            <a:chExt cx="2571840" cy="955800"/>
          </a:xfrm>
        </p:grpSpPr>
        <p:sp>
          <p:nvSpPr>
            <p:cNvPr id="72" name="AutoShape 156"/>
            <p:cNvSpPr/>
            <p:nvPr/>
          </p:nvSpPr>
          <p:spPr>
            <a:xfrm>
              <a:off x="6176880" y="1217160"/>
              <a:ext cx="990720" cy="228600"/>
            </a:xfrm>
            <a:custGeom>
              <a:avLst/>
              <a:gdLst>
                <a:gd name="textAreaLeft" fmla="*/ 155520 w 990720"/>
                <a:gd name="textAreaRight" fmla="*/ 866880 w 99072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7"/>
            <p:cNvSpPr/>
            <p:nvPr/>
          </p:nvSpPr>
          <p:spPr>
            <a:xfrm>
              <a:off x="7148520" y="1055520"/>
              <a:ext cx="1600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VIT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58"/>
          <p:cNvSpPr/>
          <p:nvPr/>
        </p:nvSpPr>
        <p:spPr>
          <a:xfrm>
            <a:off x="2916360" y="838080"/>
            <a:ext cx="1584360" cy="5032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9"/>
          <p:cNvSpPr/>
          <p:nvPr/>
        </p:nvSpPr>
        <p:spPr>
          <a:xfrm>
            <a:off x="2987640" y="9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60"/>
          <p:cNvGrpSpPr/>
          <p:nvPr/>
        </p:nvGrpSpPr>
        <p:grpSpPr>
          <a:xfrm>
            <a:off x="1908000" y="549360"/>
            <a:ext cx="1295640" cy="588960"/>
            <a:chOff x="1908000" y="549360"/>
            <a:chExt cx="1295640" cy="588960"/>
          </a:xfrm>
        </p:grpSpPr>
        <p:cxnSp>
          <p:nvCxnSpPr>
            <p:cNvPr id="77" name="AutoShape 161"/>
            <p:cNvCxnSpPr>
              <a:stCxn id="66" idx="3"/>
              <a:endCxn id="74" idx="0"/>
            </p:cNvCxnSpPr>
            <p:nvPr/>
          </p:nvCxnSpPr>
          <p:spPr>
            <a:xfrm flipV="1">
              <a:off x="2195640" y="1090440"/>
              <a:ext cx="721440" cy="48240"/>
            </a:xfrm>
            <a:prstGeom prst="curvedConnector5">
              <a:avLst>
                <a:gd name="adj1" fmla="val 49975"/>
                <a:gd name="adj2" fmla="val 49624"/>
                <a:gd name="adj3" fmla="val 499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Text Box 162"/>
            <p:cNvSpPr/>
            <p:nvPr/>
          </p:nvSpPr>
          <p:spPr>
            <a:xfrm>
              <a:off x="1908000" y="549360"/>
              <a:ext cx="129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roporcion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63"/>
          <p:cNvGrpSpPr/>
          <p:nvPr/>
        </p:nvGrpSpPr>
        <p:grpSpPr>
          <a:xfrm>
            <a:off x="4211640" y="743040"/>
            <a:ext cx="2089080" cy="1088640"/>
            <a:chOff x="4211640" y="743040"/>
            <a:chExt cx="2089080" cy="1088640"/>
          </a:xfrm>
        </p:grpSpPr>
        <p:grpSp>
          <p:nvGrpSpPr>
            <p:cNvPr id="80" name="Group 164"/>
            <p:cNvGrpSpPr/>
            <p:nvPr/>
          </p:nvGrpSpPr>
          <p:grpSpPr>
            <a:xfrm>
              <a:off x="4700520" y="743040"/>
              <a:ext cx="1600200" cy="1088640"/>
              <a:chOff x="4700520" y="743040"/>
              <a:chExt cx="1600200" cy="1088640"/>
            </a:xfrm>
          </p:grpSpPr>
          <p:sp>
            <p:nvSpPr>
              <p:cNvPr id="81" name="Text Box 165"/>
              <p:cNvSpPr/>
              <p:nvPr/>
            </p:nvSpPr>
            <p:spPr>
              <a:xfrm>
                <a:off x="5157720" y="743040"/>
                <a:ext cx="114300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omic Sans MS"/>
                  </a:rPr>
                  <a:t>MATER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66"/>
              <p:cNvSpPr/>
              <p:nvPr/>
            </p:nvSpPr>
            <p:spPr>
              <a:xfrm>
                <a:off x="5157720" y="1200240"/>
                <a:ext cx="114300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omic Sans MS"/>
                  </a:rPr>
                  <a:t>ENERG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7"/>
              <p:cNvSpPr/>
              <p:nvPr/>
            </p:nvSpPr>
            <p:spPr>
              <a:xfrm flipV="1">
                <a:off x="4700520" y="90936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68"/>
              <p:cNvSpPr/>
              <p:nvPr/>
            </p:nvSpPr>
            <p:spPr>
              <a:xfrm>
                <a:off x="4700520" y="106200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169"/>
            <p:cNvSpPr/>
            <p:nvPr/>
          </p:nvSpPr>
          <p:spPr>
            <a:xfrm>
              <a:off x="4211640" y="1341360"/>
              <a:ext cx="12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ara obte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" name="AutoShape 171"/>
          <p:cNvCxnSpPr>
            <a:stCxn id="66" idx="2"/>
            <a:endCxn id="87" idx="1"/>
          </p:cNvCxnSpPr>
          <p:nvPr/>
        </p:nvCxnSpPr>
        <p:spPr>
          <a:xfrm flipH="1" rot="16200000">
            <a:off x="1380240" y="1209960"/>
            <a:ext cx="803880" cy="111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172"/>
          <p:cNvSpPr/>
          <p:nvPr/>
        </p:nvSpPr>
        <p:spPr>
          <a:xfrm>
            <a:off x="395280" y="170028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Pueden 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73"/>
          <p:cNvGrpSpPr/>
          <p:nvPr/>
        </p:nvGrpSpPr>
        <p:grpSpPr>
          <a:xfrm>
            <a:off x="2379600" y="1630440"/>
            <a:ext cx="1727280" cy="431640"/>
            <a:chOff x="2379600" y="1630440"/>
            <a:chExt cx="1727280" cy="431640"/>
          </a:xfrm>
        </p:grpSpPr>
        <p:sp>
          <p:nvSpPr>
            <p:cNvPr id="90" name="Rectangle 174"/>
            <p:cNvSpPr/>
            <p:nvPr/>
          </p:nvSpPr>
          <p:spPr>
            <a:xfrm>
              <a:off x="2494800" y="1630440"/>
              <a:ext cx="143928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75"/>
            <p:cNvSpPr/>
            <p:nvPr/>
          </p:nvSpPr>
          <p:spPr>
            <a:xfrm>
              <a:off x="2379600" y="1701720"/>
              <a:ext cx="17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SI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76"/>
          <p:cNvSpPr/>
          <p:nvPr/>
        </p:nvSpPr>
        <p:spPr>
          <a:xfrm>
            <a:off x="2340000" y="1557360"/>
            <a:ext cx="144360" cy="122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77"/>
          <p:cNvGrpSpPr/>
          <p:nvPr/>
        </p:nvGrpSpPr>
        <p:grpSpPr>
          <a:xfrm>
            <a:off x="2340000" y="2206800"/>
            <a:ext cx="2160360" cy="431640"/>
            <a:chOff x="2340000" y="2206800"/>
            <a:chExt cx="2160360" cy="431640"/>
          </a:xfrm>
        </p:grpSpPr>
        <p:sp>
          <p:nvSpPr>
            <p:cNvPr id="93" name="Rectangle 178"/>
            <p:cNvSpPr/>
            <p:nvPr/>
          </p:nvSpPr>
          <p:spPr>
            <a:xfrm>
              <a:off x="2484360" y="2206800"/>
              <a:ext cx="180036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79"/>
            <p:cNvSpPr/>
            <p:nvPr/>
          </p:nvSpPr>
          <p:spPr>
            <a:xfrm>
              <a:off x="2340000" y="227808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COM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" name="AutoShape 189"/>
          <p:cNvCxnSpPr>
            <a:stCxn id="67" idx="2"/>
            <a:endCxn id="96" idx="0"/>
          </p:cNvCxnSpPr>
          <p:nvPr/>
        </p:nvCxnSpPr>
        <p:spPr>
          <a:xfrm flipH="1" rot="16200000">
            <a:off x="1091160" y="1498320"/>
            <a:ext cx="1199160" cy="935640"/>
          </a:xfrm>
          <a:prstGeom prst="bentConnector3">
            <a:avLst>
              <a:gd name="adj1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96"/>
          <p:cNvCxnSpPr>
            <a:stCxn id="67" idx="2"/>
            <a:endCxn id="98" idx="0"/>
          </p:cNvCxnSpPr>
          <p:nvPr/>
        </p:nvCxnSpPr>
        <p:spPr>
          <a:xfrm flipH="1" rot="16200000">
            <a:off x="3577320" y="-987120"/>
            <a:ext cx="1199160" cy="5906160"/>
          </a:xfrm>
          <a:prstGeom prst="bentConnector3">
            <a:avLst>
              <a:gd name="adj1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9" name="Group 197"/>
          <p:cNvGrpSpPr/>
          <p:nvPr/>
        </p:nvGrpSpPr>
        <p:grpSpPr>
          <a:xfrm>
            <a:off x="250920" y="2565360"/>
            <a:ext cx="3816360" cy="368280"/>
            <a:chOff x="250920" y="2565360"/>
            <a:chExt cx="3816360" cy="368280"/>
          </a:xfrm>
        </p:grpSpPr>
        <p:sp>
          <p:nvSpPr>
            <p:cNvPr id="100" name="AutoShape 198"/>
            <p:cNvSpPr/>
            <p:nvPr/>
          </p:nvSpPr>
          <p:spPr>
            <a:xfrm>
              <a:off x="250920" y="2625480"/>
              <a:ext cx="331128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99"/>
            <p:cNvSpPr/>
            <p:nvPr/>
          </p:nvSpPr>
          <p:spPr>
            <a:xfrm>
              <a:off x="250920" y="256536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IN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00"/>
          <p:cNvGrpSpPr/>
          <p:nvPr/>
        </p:nvGrpSpPr>
        <p:grpSpPr>
          <a:xfrm>
            <a:off x="728640" y="3187800"/>
            <a:ext cx="747720" cy="431280"/>
            <a:chOff x="728640" y="3187800"/>
            <a:chExt cx="747720" cy="431280"/>
          </a:xfrm>
        </p:grpSpPr>
        <p:sp>
          <p:nvSpPr>
            <p:cNvPr id="102" name="AutoShape 201"/>
            <p:cNvSpPr/>
            <p:nvPr/>
          </p:nvSpPr>
          <p:spPr>
            <a:xfrm>
              <a:off x="728640" y="3189240"/>
              <a:ext cx="747720" cy="429840"/>
            </a:xfrm>
            <a:prstGeom prst="roundRect">
              <a:avLst>
                <a:gd name="adj" fmla="val 2457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02"/>
            <p:cNvSpPr/>
            <p:nvPr/>
          </p:nvSpPr>
          <p:spPr>
            <a:xfrm>
              <a:off x="755640" y="31878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03"/>
          <p:cNvGrpSpPr/>
          <p:nvPr/>
        </p:nvGrpSpPr>
        <p:grpSpPr>
          <a:xfrm>
            <a:off x="5364000" y="2565360"/>
            <a:ext cx="3529080" cy="368280"/>
            <a:chOff x="5364000" y="2565360"/>
            <a:chExt cx="3529080" cy="368280"/>
          </a:xfrm>
        </p:grpSpPr>
        <p:sp>
          <p:nvSpPr>
            <p:cNvPr id="105" name="AutoShape 204"/>
            <p:cNvSpPr/>
            <p:nvPr/>
          </p:nvSpPr>
          <p:spPr>
            <a:xfrm>
              <a:off x="5364000" y="2625480"/>
              <a:ext cx="306180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05"/>
            <p:cNvSpPr/>
            <p:nvPr/>
          </p:nvSpPr>
          <p:spPr>
            <a:xfrm>
              <a:off x="5364000" y="256536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06" descr=""/>
          <p:cNvPicPr/>
          <p:nvPr/>
        </p:nvPicPr>
        <p:blipFill>
          <a:blip r:embed="rId5"/>
          <a:stretch/>
        </p:blipFill>
        <p:spPr>
          <a:xfrm>
            <a:off x="1619280" y="3070080"/>
            <a:ext cx="3097080" cy="25084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07"/>
          <p:cNvGrpSpPr/>
          <p:nvPr/>
        </p:nvGrpSpPr>
        <p:grpSpPr>
          <a:xfrm>
            <a:off x="755640" y="3790800"/>
            <a:ext cx="1944720" cy="431640"/>
            <a:chOff x="755640" y="3790800"/>
            <a:chExt cx="1944720" cy="431640"/>
          </a:xfrm>
        </p:grpSpPr>
        <p:sp>
          <p:nvSpPr>
            <p:cNvPr id="108" name="AutoShape 208"/>
            <p:cNvSpPr/>
            <p:nvPr/>
          </p:nvSpPr>
          <p:spPr>
            <a:xfrm>
              <a:off x="755640" y="3792240"/>
              <a:ext cx="180036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9"/>
            <p:cNvSpPr/>
            <p:nvPr/>
          </p:nvSpPr>
          <p:spPr>
            <a:xfrm>
              <a:off x="782640" y="379080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es mine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10" descr="ESQUE02"/>
          <p:cNvPicPr/>
          <p:nvPr/>
        </p:nvPicPr>
        <p:blipFill>
          <a:blip r:embed="rId7"/>
          <a:stretch/>
        </p:blipFill>
        <p:spPr>
          <a:xfrm>
            <a:off x="2627280" y="3357720"/>
            <a:ext cx="201312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11"/>
          <p:cNvGrpSpPr/>
          <p:nvPr/>
        </p:nvGrpSpPr>
        <p:grpSpPr>
          <a:xfrm>
            <a:off x="4643280" y="3214800"/>
            <a:ext cx="1106640" cy="431280"/>
            <a:chOff x="4643280" y="3214800"/>
            <a:chExt cx="1106640" cy="431280"/>
          </a:xfrm>
        </p:grpSpPr>
        <p:sp>
          <p:nvSpPr>
            <p:cNvPr id="112" name="AutoShape 212"/>
            <p:cNvSpPr/>
            <p:nvPr/>
          </p:nvSpPr>
          <p:spPr>
            <a:xfrm>
              <a:off x="4643280" y="3216240"/>
              <a:ext cx="1106640" cy="429840"/>
            </a:xfrm>
            <a:prstGeom prst="roundRect">
              <a:avLst>
                <a:gd name="adj" fmla="val 24574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13"/>
            <p:cNvSpPr/>
            <p:nvPr/>
          </p:nvSpPr>
          <p:spPr>
            <a:xfrm>
              <a:off x="4670280" y="321480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lú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14" descr="BD08911_"/>
          <p:cNvPicPr/>
          <p:nvPr/>
        </p:nvPicPr>
        <p:blipFill>
          <a:blip r:embed="rId9"/>
          <a:stretch/>
        </p:blipFill>
        <p:spPr>
          <a:xfrm>
            <a:off x="5867280" y="3011400"/>
            <a:ext cx="144000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15"/>
          <p:cNvGrpSpPr/>
          <p:nvPr/>
        </p:nvGrpSpPr>
        <p:grpSpPr>
          <a:xfrm>
            <a:off x="4643280" y="3862440"/>
            <a:ext cx="1008360" cy="431280"/>
            <a:chOff x="4643280" y="3862440"/>
            <a:chExt cx="1008360" cy="431280"/>
          </a:xfrm>
        </p:grpSpPr>
        <p:sp>
          <p:nvSpPr>
            <p:cNvPr id="116" name="AutoShape 216"/>
            <p:cNvSpPr/>
            <p:nvPr/>
          </p:nvSpPr>
          <p:spPr>
            <a:xfrm>
              <a:off x="4643280" y="3863880"/>
              <a:ext cx="1008360" cy="429840"/>
            </a:xfrm>
            <a:prstGeom prst="roundRect">
              <a:avLst>
                <a:gd name="adj" fmla="val 24574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17"/>
            <p:cNvSpPr/>
            <p:nvPr/>
          </p:nvSpPr>
          <p:spPr>
            <a:xfrm>
              <a:off x="4670280" y="3862440"/>
              <a:ext cx="9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18"/>
          <p:cNvGrpSpPr/>
          <p:nvPr/>
        </p:nvGrpSpPr>
        <p:grpSpPr>
          <a:xfrm>
            <a:off x="5867280" y="3132000"/>
            <a:ext cx="1506600" cy="2025720"/>
            <a:chOff x="5867280" y="3132000"/>
            <a:chExt cx="1506600" cy="2025720"/>
          </a:xfrm>
        </p:grpSpPr>
        <p:pic>
          <p:nvPicPr>
            <p:cNvPr id="119" name="Picture 219" descr=""/>
            <p:cNvPicPr/>
            <p:nvPr/>
          </p:nvPicPr>
          <p:blipFill>
            <a:blip r:embed="rId11"/>
            <a:stretch/>
          </p:blipFill>
          <p:spPr>
            <a:xfrm>
              <a:off x="5867280" y="3132000"/>
              <a:ext cx="150660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20" descr=""/>
            <p:cNvPicPr/>
            <p:nvPr/>
          </p:nvPicPr>
          <p:blipFill>
            <a:blip r:embed="rId12"/>
            <a:stretch/>
          </p:blipFill>
          <p:spPr>
            <a:xfrm>
              <a:off x="6083280" y="4211640"/>
              <a:ext cx="1266840" cy="9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221"/>
          <p:cNvGrpSpPr/>
          <p:nvPr/>
        </p:nvGrpSpPr>
        <p:grpSpPr>
          <a:xfrm>
            <a:off x="4643280" y="4510080"/>
            <a:ext cx="1197000" cy="431640"/>
            <a:chOff x="4643280" y="4510080"/>
            <a:chExt cx="1197000" cy="431640"/>
          </a:xfrm>
        </p:grpSpPr>
        <p:sp>
          <p:nvSpPr>
            <p:cNvPr id="122" name="AutoShape 222"/>
            <p:cNvSpPr/>
            <p:nvPr/>
          </p:nvSpPr>
          <p:spPr>
            <a:xfrm>
              <a:off x="4654440" y="4511520"/>
              <a:ext cx="115272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3"/>
            <p:cNvSpPr/>
            <p:nvPr/>
          </p:nvSpPr>
          <p:spPr>
            <a:xfrm>
              <a:off x="4643280" y="4510080"/>
              <a:ext cx="11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224" descr=""/>
          <p:cNvPicPr/>
          <p:nvPr/>
        </p:nvPicPr>
        <p:blipFill>
          <a:blip r:embed="rId14"/>
          <a:stretch/>
        </p:blipFill>
        <p:spPr>
          <a:xfrm>
            <a:off x="5978520" y="3718080"/>
            <a:ext cx="2625840" cy="21002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25"/>
          <p:cNvGrpSpPr/>
          <p:nvPr/>
        </p:nvGrpSpPr>
        <p:grpSpPr>
          <a:xfrm>
            <a:off x="4643280" y="5178600"/>
            <a:ext cx="1223640" cy="411120"/>
            <a:chOff x="4643280" y="5178600"/>
            <a:chExt cx="1223640" cy="411120"/>
          </a:xfrm>
        </p:grpSpPr>
        <p:sp>
          <p:nvSpPr>
            <p:cNvPr id="126" name="AutoShape 226"/>
            <p:cNvSpPr/>
            <p:nvPr/>
          </p:nvSpPr>
          <p:spPr>
            <a:xfrm>
              <a:off x="4643280" y="5179680"/>
              <a:ext cx="1223640" cy="410040"/>
            </a:xfrm>
            <a:prstGeom prst="roundRect">
              <a:avLst>
                <a:gd name="adj" fmla="val 24574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7"/>
            <p:cNvSpPr/>
            <p:nvPr/>
          </p:nvSpPr>
          <p:spPr>
            <a:xfrm>
              <a:off x="4643280" y="517860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2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2"/>
          <p:cNvSpPr/>
          <p:nvPr/>
        </p:nvSpPr>
        <p:spPr>
          <a:xfrm>
            <a:off x="179280" y="3573360"/>
            <a:ext cx="8713800" cy="208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4"/>
          <p:cNvSpPr/>
          <p:nvPr/>
        </p:nvSpPr>
        <p:spPr>
          <a:xfrm>
            <a:off x="3057480" y="4245120"/>
            <a:ext cx="6194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N CONSISTENCIA A ESTRUCTURAS (dientes, huesos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TÁN DISUELTAS EN LOS LÍQUIDOS CORPO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5" descr="ESQUE02"/>
          <p:cNvPicPr/>
          <p:nvPr/>
        </p:nvPicPr>
        <p:blipFill>
          <a:blip r:embed="rId2"/>
          <a:stretch/>
        </p:blipFill>
        <p:spPr>
          <a:xfrm>
            <a:off x="504720" y="4292640"/>
            <a:ext cx="1513080" cy="1208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7"/>
          <p:cNvSpPr/>
          <p:nvPr/>
        </p:nvSpPr>
        <p:spPr>
          <a:xfrm>
            <a:off x="250920" y="1197000"/>
            <a:ext cx="8594640" cy="230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9" descr=""/>
          <p:cNvPicPr/>
          <p:nvPr/>
        </p:nvPicPr>
        <p:blipFill>
          <a:blip r:embed="rId4"/>
          <a:stretch/>
        </p:blipFill>
        <p:spPr>
          <a:xfrm>
            <a:off x="708120" y="1628640"/>
            <a:ext cx="2232000" cy="1808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0"/>
          <p:cNvSpPr/>
          <p:nvPr/>
        </p:nvSpPr>
        <p:spPr>
          <a:xfrm>
            <a:off x="3603600" y="1273320"/>
            <a:ext cx="52164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MPUESTO MÁS ABUNDANTE EN LOS SERES V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DIO EN EL QUE SE DESARROLLA LA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INCORPORA BEBIDA Y EN LOS ALIMENTOS Y SE ELIMINA EN LA ORINA, RESPIRACIÓN, SUDOR Y HECES FE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UMENTA SU % EN ORGANOS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5"/>
          <p:cNvGrpSpPr/>
          <p:nvPr/>
        </p:nvGrpSpPr>
        <p:grpSpPr>
          <a:xfrm>
            <a:off x="250920" y="692280"/>
            <a:ext cx="3816360" cy="368280"/>
            <a:chOff x="250920" y="692280"/>
            <a:chExt cx="3816360" cy="368280"/>
          </a:xfrm>
        </p:grpSpPr>
        <p:sp>
          <p:nvSpPr>
            <p:cNvPr id="136" name="AutoShape 36"/>
            <p:cNvSpPr/>
            <p:nvPr/>
          </p:nvSpPr>
          <p:spPr>
            <a:xfrm>
              <a:off x="250920" y="752400"/>
              <a:ext cx="331128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7"/>
            <p:cNvSpPr/>
            <p:nvPr/>
          </p:nvSpPr>
          <p:spPr>
            <a:xfrm>
              <a:off x="250920" y="69228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IN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728640" y="1268280"/>
            <a:ext cx="747720" cy="432000"/>
            <a:chOff x="728640" y="1268280"/>
            <a:chExt cx="747720" cy="432000"/>
          </a:xfrm>
        </p:grpSpPr>
        <p:sp>
          <p:nvSpPr>
            <p:cNvPr id="139" name="AutoShape 39"/>
            <p:cNvSpPr/>
            <p:nvPr/>
          </p:nvSpPr>
          <p:spPr>
            <a:xfrm>
              <a:off x="728640" y="1270080"/>
              <a:ext cx="74772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0"/>
            <p:cNvSpPr/>
            <p:nvPr/>
          </p:nvSpPr>
          <p:spPr>
            <a:xfrm>
              <a:off x="75564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395280" y="3789360"/>
            <a:ext cx="1944720" cy="431640"/>
            <a:chOff x="395280" y="3789360"/>
            <a:chExt cx="1944720" cy="431640"/>
          </a:xfrm>
        </p:grpSpPr>
        <p:sp>
          <p:nvSpPr>
            <p:cNvPr id="142" name="AutoShape 46"/>
            <p:cNvSpPr/>
            <p:nvPr/>
          </p:nvSpPr>
          <p:spPr>
            <a:xfrm>
              <a:off x="395280" y="3790800"/>
              <a:ext cx="180036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7"/>
            <p:cNvSpPr/>
            <p:nvPr/>
          </p:nvSpPr>
          <p:spPr>
            <a:xfrm>
              <a:off x="422280" y="378936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es mine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179280" y="1125360"/>
            <a:ext cx="8496360" cy="511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250920" y="549360"/>
            <a:ext cx="3600360" cy="368280"/>
            <a:chOff x="250920" y="549360"/>
            <a:chExt cx="3600360" cy="368280"/>
          </a:xfrm>
        </p:grpSpPr>
        <p:sp>
          <p:nvSpPr>
            <p:cNvPr id="147" name="AutoShape 10"/>
            <p:cNvSpPr/>
            <p:nvPr/>
          </p:nvSpPr>
          <p:spPr>
            <a:xfrm>
              <a:off x="250920" y="609480"/>
              <a:ext cx="312372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250920" y="54936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2"/>
          <p:cNvGrpSpPr/>
          <p:nvPr/>
        </p:nvGrpSpPr>
        <p:grpSpPr>
          <a:xfrm>
            <a:off x="728640" y="1268280"/>
            <a:ext cx="1179000" cy="432000"/>
            <a:chOff x="728640" y="1268280"/>
            <a:chExt cx="1179000" cy="432000"/>
          </a:xfrm>
        </p:grpSpPr>
        <p:sp>
          <p:nvSpPr>
            <p:cNvPr id="150" name="AutoShape 13"/>
            <p:cNvSpPr/>
            <p:nvPr/>
          </p:nvSpPr>
          <p:spPr>
            <a:xfrm>
              <a:off x="728640" y="1270080"/>
              <a:ext cx="117900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71120" y="1268280"/>
              <a:ext cx="11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lú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6005520" y="1801800"/>
            <a:ext cx="2743200" cy="2343240"/>
            <a:chOff x="6005520" y="1801800"/>
            <a:chExt cx="2743200" cy="2343240"/>
          </a:xfrm>
        </p:grpSpPr>
        <p:sp>
          <p:nvSpPr>
            <p:cNvPr id="153" name="Rectangle 20"/>
            <p:cNvSpPr/>
            <p:nvPr/>
          </p:nvSpPr>
          <p:spPr>
            <a:xfrm>
              <a:off x="6005520" y="3178440"/>
              <a:ext cx="251460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1"/>
            <p:cNvGrpSpPr/>
            <p:nvPr/>
          </p:nvGrpSpPr>
          <p:grpSpPr>
            <a:xfrm>
              <a:off x="6081840" y="1801800"/>
              <a:ext cx="2666880" cy="2343240"/>
              <a:chOff x="6081840" y="1801800"/>
              <a:chExt cx="2666880" cy="2343240"/>
            </a:xfrm>
          </p:grpSpPr>
          <p:sp>
            <p:nvSpPr>
              <p:cNvPr id="155" name="Rectangle 22"/>
              <p:cNvSpPr/>
              <p:nvPr/>
            </p:nvSpPr>
            <p:spPr>
              <a:xfrm>
                <a:off x="6081840" y="1801800"/>
                <a:ext cx="2438280" cy="8384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23"/>
              <p:cNvGrpSpPr/>
              <p:nvPr/>
            </p:nvGrpSpPr>
            <p:grpSpPr>
              <a:xfrm>
                <a:off x="6081840" y="1925640"/>
                <a:ext cx="2666880" cy="2219400"/>
                <a:chOff x="6081840" y="1925640"/>
                <a:chExt cx="2666880" cy="2219400"/>
              </a:xfrm>
            </p:grpSpPr>
            <p:sp>
              <p:nvSpPr>
                <p:cNvPr id="157" name="Text Box 24"/>
                <p:cNvSpPr/>
                <p:nvPr/>
              </p:nvSpPr>
              <p:spPr>
                <a:xfrm>
                  <a:off x="6158160" y="1925640"/>
                  <a:ext cx="259056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Glucosa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: Miel, uva y frut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Fructosa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: Miel y frutas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	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	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5"/>
                <p:cNvSpPr/>
                <p:nvPr/>
              </p:nvSpPr>
              <p:spPr>
                <a:xfrm>
                  <a:off x="6081840" y="3300480"/>
                  <a:ext cx="259092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Sacarosa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: Caña y remolach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Lactosa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: Leche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	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	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9" name="Group 26"/>
          <p:cNvGrpSpPr/>
          <p:nvPr/>
        </p:nvGrpSpPr>
        <p:grpSpPr>
          <a:xfrm>
            <a:off x="-90360" y="4368960"/>
            <a:ext cx="6705360" cy="1232280"/>
            <a:chOff x="-90360" y="4368960"/>
            <a:chExt cx="6705360" cy="1232280"/>
          </a:xfrm>
        </p:grpSpPr>
        <p:sp>
          <p:nvSpPr>
            <p:cNvPr id="160" name="Rectangle 27"/>
            <p:cNvSpPr/>
            <p:nvPr/>
          </p:nvSpPr>
          <p:spPr>
            <a:xfrm>
              <a:off x="3719520" y="4368960"/>
              <a:ext cx="289548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8"/>
            <p:cNvSpPr/>
            <p:nvPr/>
          </p:nvSpPr>
          <p:spPr>
            <a:xfrm>
              <a:off x="-90360" y="4432320"/>
              <a:ext cx="6629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Almidón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Legumbres, patatas y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              cere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Celulos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Fibra vege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9"/>
          <p:cNvGrpSpPr/>
          <p:nvPr/>
        </p:nvGrpSpPr>
        <p:grpSpPr>
          <a:xfrm>
            <a:off x="1585800" y="1773360"/>
            <a:ext cx="6324480" cy="1956600"/>
            <a:chOff x="1585800" y="1773360"/>
            <a:chExt cx="6324480" cy="1956600"/>
          </a:xfrm>
        </p:grpSpPr>
        <p:sp>
          <p:nvSpPr>
            <p:cNvPr id="163" name="Text Box 30"/>
            <p:cNvSpPr/>
            <p:nvPr/>
          </p:nvSpPr>
          <p:spPr>
            <a:xfrm>
              <a:off x="1585800" y="1773360"/>
              <a:ext cx="63244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Monosacárid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(una molécul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3387600" y="3422880"/>
              <a:ext cx="25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sacárid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(dos molécul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2"/>
            <p:cNvSpPr/>
            <p:nvPr/>
          </p:nvSpPr>
          <p:spPr>
            <a:xfrm>
              <a:off x="3414600" y="22129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3"/>
          <p:cNvGrpSpPr/>
          <p:nvPr/>
        </p:nvGrpSpPr>
        <p:grpSpPr>
          <a:xfrm>
            <a:off x="1814400" y="4363920"/>
            <a:ext cx="1981080" cy="1184400"/>
            <a:chOff x="1814400" y="4363920"/>
            <a:chExt cx="1981080" cy="1184400"/>
          </a:xfrm>
        </p:grpSpPr>
        <p:sp>
          <p:nvSpPr>
            <p:cNvPr id="167" name="Oval 34"/>
            <p:cNvSpPr/>
            <p:nvPr/>
          </p:nvSpPr>
          <p:spPr>
            <a:xfrm>
              <a:off x="1814400" y="4363920"/>
              <a:ext cx="1904760" cy="1066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5"/>
            <p:cNvSpPr/>
            <p:nvPr/>
          </p:nvSpPr>
          <p:spPr>
            <a:xfrm>
              <a:off x="1966680" y="4563720"/>
              <a:ext cx="1828800" cy="9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o dul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solubles en 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6"/>
          <p:cNvGrpSpPr/>
          <p:nvPr/>
        </p:nvGrpSpPr>
        <p:grpSpPr>
          <a:xfrm>
            <a:off x="438120" y="2154240"/>
            <a:ext cx="3052440" cy="3287520"/>
            <a:chOff x="438120" y="2154240"/>
            <a:chExt cx="3052440" cy="3287520"/>
          </a:xfrm>
        </p:grpSpPr>
        <p:sp>
          <p:nvSpPr>
            <p:cNvPr id="170" name="Oval 37"/>
            <p:cNvSpPr/>
            <p:nvPr/>
          </p:nvSpPr>
          <p:spPr>
            <a:xfrm>
              <a:off x="1585800" y="2154240"/>
              <a:ext cx="1752480" cy="14475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8"/>
            <p:cNvGrpSpPr/>
            <p:nvPr/>
          </p:nvGrpSpPr>
          <p:grpSpPr>
            <a:xfrm>
              <a:off x="438120" y="2201760"/>
              <a:ext cx="3052440" cy="3240000"/>
              <a:chOff x="438120" y="2201760"/>
              <a:chExt cx="3052440" cy="3240000"/>
            </a:xfrm>
          </p:grpSpPr>
          <p:sp>
            <p:nvSpPr>
              <p:cNvPr id="172" name="Line 39"/>
              <p:cNvSpPr/>
              <p:nvPr/>
            </p:nvSpPr>
            <p:spPr>
              <a:xfrm>
                <a:off x="747360" y="2288520"/>
                <a:ext cx="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40"/>
              <p:cNvSpPr/>
              <p:nvPr/>
            </p:nvSpPr>
            <p:spPr>
              <a:xfrm>
                <a:off x="1814400" y="2306160"/>
                <a:ext cx="1676160" cy="135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Dul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Solubles en 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Cristalizab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41"/>
              <p:cNvSpPr/>
              <p:nvPr/>
            </p:nvSpPr>
            <p:spPr>
              <a:xfrm>
                <a:off x="780840" y="220176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Azúca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2"/>
              <p:cNvSpPr/>
              <p:nvPr/>
            </p:nvSpPr>
            <p:spPr>
              <a:xfrm>
                <a:off x="747360" y="436356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Polisacári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(much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Molécula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3"/>
              <p:cNvSpPr/>
              <p:nvPr/>
            </p:nvSpPr>
            <p:spPr>
              <a:xfrm rot="16180800">
                <a:off x="-241560" y="329508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omic Sans MS"/>
                  </a:rPr>
                  <a:t>CLASIFIC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44" descr="BD08911_"/>
          <p:cNvPicPr/>
          <p:nvPr/>
        </p:nvPicPr>
        <p:blipFill>
          <a:blip r:embed="rId8"/>
          <a:stretch/>
        </p:blipFill>
        <p:spPr>
          <a:xfrm>
            <a:off x="3708360" y="503280"/>
            <a:ext cx="1655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6"/>
          <p:cNvSpPr/>
          <p:nvPr/>
        </p:nvSpPr>
        <p:spPr>
          <a:xfrm>
            <a:off x="206280" y="1052640"/>
            <a:ext cx="8686800" cy="489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50920" y="549360"/>
            <a:ext cx="3600360" cy="368280"/>
            <a:chOff x="250920" y="549360"/>
            <a:chExt cx="3600360" cy="368280"/>
          </a:xfrm>
        </p:grpSpPr>
        <p:sp>
          <p:nvSpPr>
            <p:cNvPr id="181" name="AutoShape 5"/>
            <p:cNvSpPr/>
            <p:nvPr/>
          </p:nvSpPr>
          <p:spPr>
            <a:xfrm>
              <a:off x="250920" y="609480"/>
              <a:ext cx="312372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50920" y="54936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"/>
          <p:cNvGrpSpPr/>
          <p:nvPr/>
        </p:nvGrpSpPr>
        <p:grpSpPr>
          <a:xfrm>
            <a:off x="728640" y="1268280"/>
            <a:ext cx="1179000" cy="432000"/>
            <a:chOff x="728640" y="1268280"/>
            <a:chExt cx="1179000" cy="432000"/>
          </a:xfrm>
        </p:grpSpPr>
        <p:sp>
          <p:nvSpPr>
            <p:cNvPr id="184" name="AutoShape 8"/>
            <p:cNvSpPr/>
            <p:nvPr/>
          </p:nvSpPr>
          <p:spPr>
            <a:xfrm>
              <a:off x="728640" y="1270080"/>
              <a:ext cx="117900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771120" y="1268280"/>
              <a:ext cx="11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2745720" y="1592280"/>
            <a:ext cx="3301560" cy="2556000"/>
            <a:chOff x="2745720" y="1592280"/>
            <a:chExt cx="3301560" cy="2556000"/>
          </a:xfrm>
        </p:grpSpPr>
        <p:sp>
          <p:nvSpPr>
            <p:cNvPr id="187" name="Line 39"/>
            <p:cNvSpPr/>
            <p:nvPr/>
          </p:nvSpPr>
          <p:spPr>
            <a:xfrm>
              <a:off x="3962520" y="18622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3886200" y="3614760"/>
              <a:ext cx="2057400" cy="533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3886200" y="1592280"/>
              <a:ext cx="2057400" cy="533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2"/>
            <p:cNvSpPr/>
            <p:nvPr/>
          </p:nvSpPr>
          <p:spPr>
            <a:xfrm>
              <a:off x="2745720" y="2471760"/>
              <a:ext cx="121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las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3"/>
            <p:cNvSpPr/>
            <p:nvPr/>
          </p:nvSpPr>
          <p:spPr>
            <a:xfrm>
              <a:off x="3886200" y="1710000"/>
              <a:ext cx="20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Según su estado fís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4"/>
            <p:cNvSpPr/>
            <p:nvPr/>
          </p:nvSpPr>
          <p:spPr>
            <a:xfrm>
              <a:off x="3865680" y="3714840"/>
              <a:ext cx="218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Según los ácidos gra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45"/>
          <p:cNvGrpSpPr/>
          <p:nvPr/>
        </p:nvGrpSpPr>
        <p:grpSpPr>
          <a:xfrm>
            <a:off x="6172200" y="1557360"/>
            <a:ext cx="2476440" cy="685800"/>
            <a:chOff x="6172200" y="1557360"/>
            <a:chExt cx="2476440" cy="685800"/>
          </a:xfrm>
        </p:grpSpPr>
        <p:sp>
          <p:nvSpPr>
            <p:cNvPr id="194" name="Rectangle 46"/>
            <p:cNvSpPr/>
            <p:nvPr/>
          </p:nvSpPr>
          <p:spPr>
            <a:xfrm>
              <a:off x="6172200" y="1557360"/>
              <a:ext cx="2438280" cy="685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7"/>
            <p:cNvSpPr/>
            <p:nvPr/>
          </p:nvSpPr>
          <p:spPr>
            <a:xfrm>
              <a:off x="6227640" y="1633680"/>
              <a:ext cx="242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Aceite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(líqui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Seb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manteca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(sóli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8"/>
          <p:cNvGrpSpPr/>
          <p:nvPr/>
        </p:nvGrpSpPr>
        <p:grpSpPr>
          <a:xfrm>
            <a:off x="6019920" y="2776680"/>
            <a:ext cx="3047760" cy="2488680"/>
            <a:chOff x="6019920" y="2776680"/>
            <a:chExt cx="3047760" cy="2488680"/>
          </a:xfrm>
        </p:grpSpPr>
        <p:sp>
          <p:nvSpPr>
            <p:cNvPr id="197" name="Rectangle 49"/>
            <p:cNvSpPr/>
            <p:nvPr/>
          </p:nvSpPr>
          <p:spPr>
            <a:xfrm>
              <a:off x="6019920" y="4147920"/>
              <a:ext cx="2819160" cy="990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0"/>
            <p:cNvSpPr/>
            <p:nvPr/>
          </p:nvSpPr>
          <p:spPr>
            <a:xfrm>
              <a:off x="6019920" y="2776680"/>
              <a:ext cx="281916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1"/>
            <p:cNvSpPr/>
            <p:nvPr/>
          </p:nvSpPr>
          <p:spPr>
            <a:xfrm>
              <a:off x="6075360" y="2827080"/>
              <a:ext cx="29923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on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ácidos grasos saturad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eche, manteca y sebos, a. de coco, a. de palma, grasa de choco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on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ácidos grasos insaturad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. de oliva, girasol, maíz y soja, grasa de peces y de ball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2"/>
          <p:cNvGrpSpPr/>
          <p:nvPr/>
        </p:nvGrpSpPr>
        <p:grpSpPr>
          <a:xfrm>
            <a:off x="762120" y="2090880"/>
            <a:ext cx="3449160" cy="2818800"/>
            <a:chOff x="762120" y="2090880"/>
            <a:chExt cx="3449160" cy="2818800"/>
          </a:xfrm>
        </p:grpSpPr>
        <p:sp>
          <p:nvSpPr>
            <p:cNvPr id="201" name="Text Box 53"/>
            <p:cNvSpPr/>
            <p:nvPr/>
          </p:nvSpPr>
          <p:spPr>
            <a:xfrm>
              <a:off x="762120" y="2090880"/>
              <a:ext cx="301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Grasas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(Glicerol + ácidos gras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4"/>
            <p:cNvSpPr/>
            <p:nvPr/>
          </p:nvSpPr>
          <p:spPr>
            <a:xfrm>
              <a:off x="762120" y="4605120"/>
              <a:ext cx="344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55"/>
          <p:cNvGrpSpPr/>
          <p:nvPr/>
        </p:nvGrpSpPr>
        <p:grpSpPr>
          <a:xfrm>
            <a:off x="1187280" y="2622600"/>
            <a:ext cx="1506600" cy="2025720"/>
            <a:chOff x="1187280" y="2622600"/>
            <a:chExt cx="1506600" cy="2025720"/>
          </a:xfrm>
        </p:grpSpPr>
        <p:pic>
          <p:nvPicPr>
            <p:cNvPr id="204" name="Picture 56" descr=""/>
            <p:cNvPicPr/>
            <p:nvPr/>
          </p:nvPicPr>
          <p:blipFill>
            <a:blip r:embed="rId8"/>
            <a:stretch/>
          </p:blipFill>
          <p:spPr>
            <a:xfrm>
              <a:off x="1187280" y="2622600"/>
              <a:ext cx="150660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57" descr=""/>
            <p:cNvPicPr/>
            <p:nvPr/>
          </p:nvPicPr>
          <p:blipFill>
            <a:blip r:embed="rId9"/>
            <a:stretch/>
          </p:blipFill>
          <p:spPr>
            <a:xfrm>
              <a:off x="1403280" y="3702240"/>
              <a:ext cx="1266840" cy="94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 Box 59"/>
          <p:cNvSpPr/>
          <p:nvPr/>
        </p:nvSpPr>
        <p:spPr>
          <a:xfrm>
            <a:off x="826920" y="470844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olesterol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iet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0"/>
          <p:cNvSpPr/>
          <p:nvPr/>
        </p:nvSpPr>
        <p:spPr>
          <a:xfrm>
            <a:off x="977760" y="58611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2"/>
          <p:cNvSpPr/>
          <p:nvPr/>
        </p:nvSpPr>
        <p:spPr>
          <a:xfrm>
            <a:off x="152280" y="1168560"/>
            <a:ext cx="883944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250920" y="549360"/>
            <a:ext cx="3600360" cy="368280"/>
            <a:chOff x="250920" y="549360"/>
            <a:chExt cx="3600360" cy="368280"/>
          </a:xfrm>
        </p:grpSpPr>
        <p:sp>
          <p:nvSpPr>
            <p:cNvPr id="211" name="AutoShape 5"/>
            <p:cNvSpPr/>
            <p:nvPr/>
          </p:nvSpPr>
          <p:spPr>
            <a:xfrm>
              <a:off x="250920" y="609480"/>
              <a:ext cx="312372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250920" y="54936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7"/>
          <p:cNvGrpSpPr/>
          <p:nvPr/>
        </p:nvGrpSpPr>
        <p:grpSpPr>
          <a:xfrm>
            <a:off x="728640" y="1268280"/>
            <a:ext cx="1321920" cy="432000"/>
            <a:chOff x="728640" y="1268280"/>
            <a:chExt cx="1321920" cy="432000"/>
          </a:xfrm>
        </p:grpSpPr>
        <p:sp>
          <p:nvSpPr>
            <p:cNvPr id="214" name="AutoShape 8"/>
            <p:cNvSpPr/>
            <p:nvPr/>
          </p:nvSpPr>
          <p:spPr>
            <a:xfrm>
              <a:off x="728640" y="1270080"/>
              <a:ext cx="132192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776160" y="1268280"/>
              <a:ext cx="12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31"/>
          <p:cNvSpPr/>
          <p:nvPr/>
        </p:nvSpPr>
        <p:spPr>
          <a:xfrm>
            <a:off x="977760" y="58611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2362320" y="125244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 forman por la unión de aminoáci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8"/>
          <p:cNvGrpSpPr/>
          <p:nvPr/>
        </p:nvGrpSpPr>
        <p:grpSpPr>
          <a:xfrm>
            <a:off x="6404040" y="1339920"/>
            <a:ext cx="2057400" cy="1526040"/>
            <a:chOff x="6404040" y="1339920"/>
            <a:chExt cx="2057400" cy="1526040"/>
          </a:xfrm>
        </p:grpSpPr>
        <p:graphicFrame>
          <p:nvGraphicFramePr>
            <p:cNvPr id="219" name="Object 39"/>
            <p:cNvGraphicFramePr/>
            <p:nvPr/>
          </p:nvGraphicFramePr>
          <p:xfrm>
            <a:off x="6404040" y="1339920"/>
            <a:ext cx="2057400" cy="113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Object 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4040" y="1339920"/>
                      <a:ext cx="2057400" cy="11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Rectangle 40"/>
            <p:cNvSpPr/>
            <p:nvPr/>
          </p:nvSpPr>
          <p:spPr>
            <a:xfrm>
              <a:off x="6629400" y="2558880"/>
              <a:ext cx="150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41"/>
          <p:cNvSpPr/>
          <p:nvPr/>
        </p:nvSpPr>
        <p:spPr>
          <a:xfrm rot="4364400">
            <a:off x="6010560" y="364536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2"/>
          <p:cNvGrpSpPr/>
          <p:nvPr/>
        </p:nvGrpSpPr>
        <p:grpSpPr>
          <a:xfrm>
            <a:off x="4932360" y="2492280"/>
            <a:ext cx="1728720" cy="863640"/>
            <a:chOff x="4932360" y="2492280"/>
            <a:chExt cx="1728720" cy="863640"/>
          </a:xfrm>
        </p:grpSpPr>
        <p:sp>
          <p:nvSpPr>
            <p:cNvPr id="224" name="AutoShape 43"/>
            <p:cNvSpPr/>
            <p:nvPr/>
          </p:nvSpPr>
          <p:spPr>
            <a:xfrm>
              <a:off x="4932360" y="2492280"/>
              <a:ext cx="1728720" cy="863640"/>
            </a:xfrm>
            <a:custGeom>
              <a:avLst/>
              <a:gdLst>
                <a:gd name="textAreaLeft" fmla="*/ 394560 w 1728720"/>
                <a:gd name="textAreaRight" fmla="*/ 1334160 w 1728720"/>
                <a:gd name="textAreaTop" fmla="*/ 196920 h 863640"/>
                <a:gd name="textAreaBottom" fmla="*/ 666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4"/>
            <p:cNvSpPr/>
            <p:nvPr/>
          </p:nvSpPr>
          <p:spPr>
            <a:xfrm>
              <a:off x="5221080" y="270828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45"/>
          <p:cNvGrpSpPr/>
          <p:nvPr/>
        </p:nvGrpSpPr>
        <p:grpSpPr>
          <a:xfrm>
            <a:off x="6475320" y="4556160"/>
            <a:ext cx="2057400" cy="1754640"/>
            <a:chOff x="6475320" y="4556160"/>
            <a:chExt cx="2057400" cy="1754640"/>
          </a:xfrm>
        </p:grpSpPr>
        <p:graphicFrame>
          <p:nvGraphicFramePr>
            <p:cNvPr id="227" name="Object 46"/>
            <p:cNvGraphicFramePr/>
            <p:nvPr/>
          </p:nvGraphicFramePr>
          <p:xfrm>
            <a:off x="6475320" y="4556160"/>
            <a:ext cx="2057400" cy="1347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Object 4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75320" y="4556160"/>
                      <a:ext cx="2057400" cy="13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Rectangle 47"/>
            <p:cNvSpPr/>
            <p:nvPr/>
          </p:nvSpPr>
          <p:spPr>
            <a:xfrm>
              <a:off x="6896520" y="6003720"/>
              <a:ext cx="119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AutoShape 48"/>
          <p:cNvSpPr/>
          <p:nvPr/>
        </p:nvSpPr>
        <p:spPr>
          <a:xfrm rot="5400000">
            <a:off x="6732720" y="3429000"/>
            <a:ext cx="1512720" cy="503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50920" y="758880"/>
            <a:ext cx="3600360" cy="368280"/>
            <a:chOff x="250920" y="758880"/>
            <a:chExt cx="3600360" cy="368280"/>
          </a:xfrm>
        </p:grpSpPr>
        <p:sp>
          <p:nvSpPr>
            <p:cNvPr id="233" name="AutoShape 5"/>
            <p:cNvSpPr/>
            <p:nvPr/>
          </p:nvSpPr>
          <p:spPr>
            <a:xfrm>
              <a:off x="250920" y="819000"/>
              <a:ext cx="312372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250920" y="75888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10"/>
          <p:cNvSpPr/>
          <p:nvPr/>
        </p:nvSpPr>
        <p:spPr>
          <a:xfrm>
            <a:off x="977760" y="58611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228600" y="1521000"/>
            <a:ext cx="8686800" cy="406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3429000" y="1739880"/>
            <a:ext cx="49528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 necesitan en cantidades muy pequeñ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 deben incorporar a la d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Imprescind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vocan hipovitaminosis e hipervitamin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 destruyen por la luz y el c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3718080"/>
          <a:ext cx="8207280" cy="1584000"/>
        </p:xfrm>
        <a:graphic>
          <a:graphicData uri="http://schemas.openxmlformats.org/drawingml/2006/table">
            <a:tbl>
              <a:tblPr/>
              <a:tblGrid>
                <a:gridCol w="2052720"/>
                <a:gridCol w="2050920"/>
                <a:gridCol w="2052720"/>
                <a:gridCol w="20509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42"/>
          <p:cNvSpPr/>
          <p:nvPr/>
        </p:nvSpPr>
        <p:spPr>
          <a:xfrm>
            <a:off x="539640" y="3933720"/>
            <a:ext cx="158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684360" y="3933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Vitamin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2700360" y="386064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Piel, visión y crecimiento ós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4643280" y="3860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Infecciones en la piel y ceguera noctu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6732720" y="3860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Hígado, leche, yema de huevo y verd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684360" y="4616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Vitamin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2556000" y="45687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Síntesis de colágeno, absorción de hierro y defen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643280" y="47084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Escorb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6732720" y="46404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Frutas y verduras fres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728640" y="1917720"/>
            <a:ext cx="1321920" cy="431280"/>
            <a:chOff x="728640" y="1917720"/>
            <a:chExt cx="1321920" cy="431280"/>
          </a:xfrm>
        </p:grpSpPr>
        <p:sp>
          <p:nvSpPr>
            <p:cNvPr id="249" name="AutoShape 8"/>
            <p:cNvSpPr/>
            <p:nvPr/>
          </p:nvSpPr>
          <p:spPr>
            <a:xfrm>
              <a:off x="728640" y="1919160"/>
              <a:ext cx="1321920" cy="429840"/>
            </a:xfrm>
            <a:prstGeom prst="roundRect">
              <a:avLst>
                <a:gd name="adj" fmla="val 245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76160" y="1917720"/>
              <a:ext cx="12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2771640" y="42840"/>
            <a:ext cx="316872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ALIMENTOS Y DI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4716360" y="2494080"/>
            <a:ext cx="2195280" cy="457200"/>
            <a:chOff x="4716360" y="2494080"/>
            <a:chExt cx="2195280" cy="457200"/>
          </a:xfrm>
        </p:grpSpPr>
        <p:sp>
          <p:nvSpPr>
            <p:cNvPr id="253" name="AutoShape 21"/>
            <p:cNvSpPr/>
            <p:nvPr/>
          </p:nvSpPr>
          <p:spPr>
            <a:xfrm>
              <a:off x="4716360" y="2494080"/>
              <a:ext cx="219528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4797360" y="2550960"/>
              <a:ext cx="203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ENERGÉ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3"/>
          <p:cNvGrpSpPr/>
          <p:nvPr/>
        </p:nvGrpSpPr>
        <p:grpSpPr>
          <a:xfrm>
            <a:off x="4741920" y="766800"/>
            <a:ext cx="1485720" cy="457200"/>
            <a:chOff x="4741920" y="766800"/>
            <a:chExt cx="1485720" cy="457200"/>
          </a:xfrm>
        </p:grpSpPr>
        <p:sp>
          <p:nvSpPr>
            <p:cNvPr id="256" name="AutoShape 24"/>
            <p:cNvSpPr/>
            <p:nvPr/>
          </p:nvSpPr>
          <p:spPr>
            <a:xfrm>
              <a:off x="4741920" y="766800"/>
              <a:ext cx="147600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5"/>
            <p:cNvSpPr/>
            <p:nvPr/>
          </p:nvSpPr>
          <p:spPr>
            <a:xfrm>
              <a:off x="4751280" y="828720"/>
              <a:ext cx="14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LÁ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26"/>
          <p:cNvGrpSpPr/>
          <p:nvPr/>
        </p:nvGrpSpPr>
        <p:grpSpPr>
          <a:xfrm>
            <a:off x="4708440" y="4454640"/>
            <a:ext cx="1981080" cy="395280"/>
            <a:chOff x="4708440" y="4454640"/>
            <a:chExt cx="1981080" cy="395280"/>
          </a:xfrm>
        </p:grpSpPr>
        <p:sp>
          <p:nvSpPr>
            <p:cNvPr id="259" name="AutoShape 27"/>
            <p:cNvSpPr/>
            <p:nvPr/>
          </p:nvSpPr>
          <p:spPr>
            <a:xfrm>
              <a:off x="4713120" y="4454640"/>
              <a:ext cx="1976400" cy="39528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8"/>
            <p:cNvSpPr/>
            <p:nvPr/>
          </p:nvSpPr>
          <p:spPr>
            <a:xfrm>
              <a:off x="4708440" y="446904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GULADO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9"/>
          <p:cNvGrpSpPr/>
          <p:nvPr/>
        </p:nvGrpSpPr>
        <p:grpSpPr>
          <a:xfrm>
            <a:off x="4022280" y="1058040"/>
            <a:ext cx="686160" cy="3594960"/>
            <a:chOff x="4022280" y="1058040"/>
            <a:chExt cx="686160" cy="3594960"/>
          </a:xfrm>
        </p:grpSpPr>
        <p:cxnSp>
          <p:nvCxnSpPr>
            <p:cNvPr id="262" name="AutoShape 30"/>
            <p:cNvCxnSpPr>
              <a:stCxn id="263" idx="3"/>
              <a:endCxn id="253" idx="1"/>
            </p:cNvCxnSpPr>
            <p:nvPr/>
          </p:nvCxnSpPr>
          <p:spPr>
            <a:xfrm flipV="1">
              <a:off x="4022280" y="1058040"/>
              <a:ext cx="686520" cy="1370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AutoShape 31"/>
            <p:cNvCxnSpPr>
              <a:stCxn id="263" idx="3"/>
              <a:endCxn id="256" idx="1"/>
            </p:cNvCxnSpPr>
            <p:nvPr/>
          </p:nvCxnSpPr>
          <p:spPr>
            <a:xfrm>
              <a:off x="4022280" y="2428560"/>
              <a:ext cx="686520" cy="349920"/>
            </a:xfrm>
            <a:prstGeom prst="curvedConnector5">
              <a:avLst>
                <a:gd name="adj1" fmla="val 50000"/>
                <a:gd name="adj2" fmla="val 4994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AutoShape 32"/>
            <p:cNvCxnSpPr>
              <a:stCxn id="263" idx="3"/>
              <a:endCxn id="260" idx="1"/>
            </p:cNvCxnSpPr>
            <p:nvPr/>
          </p:nvCxnSpPr>
          <p:spPr>
            <a:xfrm>
              <a:off x="4022280" y="2428560"/>
              <a:ext cx="686520" cy="2224800"/>
            </a:xfrm>
            <a:prstGeom prst="curvedConnector5">
              <a:avLst>
                <a:gd name="adj1" fmla="val 50000"/>
                <a:gd name="adj2" fmla="val 49991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6" name="Text Box 33"/>
          <p:cNvSpPr/>
          <p:nvPr/>
        </p:nvSpPr>
        <p:spPr>
          <a:xfrm>
            <a:off x="4643280" y="299880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portan energía para realizar trabajo, las funciones vitales y las 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4"/>
          <p:cNvSpPr/>
          <p:nvPr/>
        </p:nvSpPr>
        <p:spPr>
          <a:xfrm>
            <a:off x="4741920" y="127008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onstruyen, reparan y mantienen estruc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5"/>
          <p:cNvSpPr/>
          <p:nvPr/>
        </p:nvSpPr>
        <p:spPr>
          <a:xfrm>
            <a:off x="4861080" y="483552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Hacen posible el desarrollo de los procesos v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6"/>
          <p:cNvGrpSpPr/>
          <p:nvPr/>
        </p:nvGrpSpPr>
        <p:grpSpPr>
          <a:xfrm>
            <a:off x="6975360" y="2278080"/>
            <a:ext cx="2276280" cy="1293120"/>
            <a:chOff x="6975360" y="2278080"/>
            <a:chExt cx="2276280" cy="1293120"/>
          </a:xfrm>
        </p:grpSpPr>
        <p:sp>
          <p:nvSpPr>
            <p:cNvPr id="270" name="AutoShape 37"/>
            <p:cNvSpPr/>
            <p:nvPr/>
          </p:nvSpPr>
          <p:spPr>
            <a:xfrm>
              <a:off x="6975360" y="2278080"/>
              <a:ext cx="406440" cy="1016280"/>
            </a:xfrm>
            <a:custGeom>
              <a:avLst/>
              <a:gdLst>
                <a:gd name="textAreaLeft" fmla="*/ 259560 w 406440"/>
                <a:gd name="textAreaRight" fmla="*/ 406800 w 406440"/>
                <a:gd name="textAreaTop" fmla="*/ 33120 h 1016280"/>
                <a:gd name="textAreaBottom" fmla="*/ 983160 h 10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25"/>
                    <a:pt x="10800" y="2250"/>
                  </a:cubicBezTo>
                  <a:lnTo>
                    <a:pt x="10800" y="8313"/>
                  </a:lnTo>
                  <a:cubicBezTo>
                    <a:pt x="10800" y="9438"/>
                    <a:pt x="5400" y="10563"/>
                    <a:pt x="0" y="10563"/>
                  </a:cubicBezTo>
                  <a:cubicBezTo>
                    <a:pt x="5400" y="10563"/>
                    <a:pt x="10800" y="11688"/>
                    <a:pt x="10800" y="12813"/>
                  </a:cubicBezTo>
                  <a:lnTo>
                    <a:pt x="10800" y="19350"/>
                  </a:lnTo>
                  <a:cubicBezTo>
                    <a:pt x="10800" y="2047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7219080" y="2368440"/>
              <a:ext cx="2032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GLÚ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9"/>
          <p:cNvGrpSpPr/>
          <p:nvPr/>
        </p:nvGrpSpPr>
        <p:grpSpPr>
          <a:xfrm>
            <a:off x="6831000" y="477720"/>
            <a:ext cx="2133360" cy="1477080"/>
            <a:chOff x="6831000" y="477720"/>
            <a:chExt cx="2133360" cy="1477080"/>
          </a:xfrm>
        </p:grpSpPr>
        <p:sp>
          <p:nvSpPr>
            <p:cNvPr id="273" name="AutoShape 40"/>
            <p:cNvSpPr/>
            <p:nvPr/>
          </p:nvSpPr>
          <p:spPr>
            <a:xfrm>
              <a:off x="6831000" y="477720"/>
              <a:ext cx="380880" cy="10972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5640 h 1097280"/>
                <a:gd name="textAreaBottom" fmla="*/ 1061640 h 10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25"/>
                    <a:pt x="10800" y="2250"/>
                  </a:cubicBezTo>
                  <a:lnTo>
                    <a:pt x="10800" y="8313"/>
                  </a:lnTo>
                  <a:cubicBezTo>
                    <a:pt x="10800" y="9438"/>
                    <a:pt x="5400" y="10563"/>
                    <a:pt x="0" y="10563"/>
                  </a:cubicBezTo>
                  <a:cubicBezTo>
                    <a:pt x="5400" y="10563"/>
                    <a:pt x="10800" y="11688"/>
                    <a:pt x="10800" y="12813"/>
                  </a:cubicBezTo>
                  <a:lnTo>
                    <a:pt x="10800" y="19350"/>
                  </a:lnTo>
                  <a:cubicBezTo>
                    <a:pt x="10800" y="2047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1"/>
            <p:cNvSpPr/>
            <p:nvPr/>
          </p:nvSpPr>
          <p:spPr>
            <a:xfrm>
              <a:off x="7059600" y="477720"/>
              <a:ext cx="19047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ALES MINE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2"/>
          <p:cNvGrpSpPr/>
          <p:nvPr/>
        </p:nvGrpSpPr>
        <p:grpSpPr>
          <a:xfrm>
            <a:off x="6804000" y="3940200"/>
            <a:ext cx="2133360" cy="1447920"/>
            <a:chOff x="6804000" y="3940200"/>
            <a:chExt cx="2133360" cy="1447920"/>
          </a:xfrm>
        </p:grpSpPr>
        <p:sp>
          <p:nvSpPr>
            <p:cNvPr id="276" name="AutoShape 43"/>
            <p:cNvSpPr/>
            <p:nvPr/>
          </p:nvSpPr>
          <p:spPr>
            <a:xfrm>
              <a:off x="6804000" y="3940200"/>
              <a:ext cx="380880" cy="14479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7160 h 1447920"/>
                <a:gd name="textAreaBottom" fmla="*/ 140076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25"/>
                    <a:pt x="10800" y="2250"/>
                  </a:cubicBezTo>
                  <a:lnTo>
                    <a:pt x="10800" y="8313"/>
                  </a:lnTo>
                  <a:cubicBezTo>
                    <a:pt x="10800" y="9438"/>
                    <a:pt x="5400" y="10563"/>
                    <a:pt x="0" y="10563"/>
                  </a:cubicBezTo>
                  <a:cubicBezTo>
                    <a:pt x="5400" y="10563"/>
                    <a:pt x="10800" y="11688"/>
                    <a:pt x="10800" y="12813"/>
                  </a:cubicBezTo>
                  <a:lnTo>
                    <a:pt x="10800" y="19350"/>
                  </a:lnTo>
                  <a:cubicBezTo>
                    <a:pt x="10800" y="2047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4"/>
            <p:cNvSpPr/>
            <p:nvPr/>
          </p:nvSpPr>
          <p:spPr>
            <a:xfrm>
              <a:off x="7032600" y="4149720"/>
              <a:ext cx="19047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VITAM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ALES MINE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45"/>
          <p:cNvGrpSpPr/>
          <p:nvPr/>
        </p:nvGrpSpPr>
        <p:grpSpPr>
          <a:xfrm>
            <a:off x="1584360" y="568440"/>
            <a:ext cx="1981080" cy="459720"/>
            <a:chOff x="1584360" y="568440"/>
            <a:chExt cx="1981080" cy="459720"/>
          </a:xfrm>
        </p:grpSpPr>
        <p:sp>
          <p:nvSpPr>
            <p:cNvPr id="279" name="Rectangle 46"/>
            <p:cNvSpPr/>
            <p:nvPr/>
          </p:nvSpPr>
          <p:spPr>
            <a:xfrm>
              <a:off x="1584360" y="568440"/>
              <a:ext cx="1981080" cy="457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7"/>
            <p:cNvSpPr/>
            <p:nvPr/>
          </p:nvSpPr>
          <p:spPr>
            <a:xfrm>
              <a:off x="1736640" y="56844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lim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8"/>
          <p:cNvGrpSpPr/>
          <p:nvPr/>
        </p:nvGrpSpPr>
        <p:grpSpPr>
          <a:xfrm>
            <a:off x="1069920" y="1054080"/>
            <a:ext cx="2971800" cy="2043000"/>
            <a:chOff x="1069920" y="1054080"/>
            <a:chExt cx="2971800" cy="2043000"/>
          </a:xfrm>
        </p:grpSpPr>
        <p:grpSp>
          <p:nvGrpSpPr>
            <p:cNvPr id="282" name="Group 49"/>
            <p:cNvGrpSpPr/>
            <p:nvPr/>
          </p:nvGrpSpPr>
          <p:grpSpPr>
            <a:xfrm>
              <a:off x="1069920" y="1054080"/>
              <a:ext cx="2971800" cy="2043000"/>
              <a:chOff x="1069920" y="1054080"/>
              <a:chExt cx="2971800" cy="2043000"/>
            </a:xfrm>
          </p:grpSpPr>
          <p:sp>
            <p:nvSpPr>
              <p:cNvPr id="283" name="Oval 50"/>
              <p:cNvSpPr/>
              <p:nvPr/>
            </p:nvSpPr>
            <p:spPr>
              <a:xfrm>
                <a:off x="1241280" y="1878120"/>
                <a:ext cx="2666880" cy="1218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1"/>
              <p:cNvSpPr/>
              <p:nvPr/>
            </p:nvSpPr>
            <p:spPr>
              <a:xfrm>
                <a:off x="1069920" y="2030400"/>
                <a:ext cx="29718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Comic Sans MS"/>
                  </a:rPr>
                  <a:t>FUNCION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52"/>
              <p:cNvSpPr/>
              <p:nvPr/>
            </p:nvSpPr>
            <p:spPr>
              <a:xfrm>
                <a:off x="2517480" y="1054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53"/>
            <p:cNvSpPr/>
            <p:nvPr/>
          </p:nvSpPr>
          <p:spPr>
            <a:xfrm>
              <a:off x="2528640" y="115380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realiz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54" descr=""/>
          <p:cNvPicPr/>
          <p:nvPr/>
        </p:nvPicPr>
        <p:blipFill>
          <a:blip r:embed="rId6"/>
          <a:stretch/>
        </p:blipFill>
        <p:spPr>
          <a:xfrm>
            <a:off x="285840" y="2494080"/>
            <a:ext cx="37814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8" descr=""/>
          <p:cNvPicPr/>
          <p:nvPr/>
        </p:nvPicPr>
        <p:blipFill>
          <a:blip r:embed="rId1"/>
          <a:stretch/>
        </p:blipFill>
        <p:spPr>
          <a:xfrm>
            <a:off x="330120" y="3621240"/>
            <a:ext cx="3810240" cy="30477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"/>
          <p:cNvSpPr/>
          <p:nvPr/>
        </p:nvSpPr>
        <p:spPr>
          <a:xfrm>
            <a:off x="2771640" y="42840"/>
            <a:ext cx="316872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ALIMENTOS Y DI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8"/>
          <p:cNvGrpSpPr/>
          <p:nvPr/>
        </p:nvGrpSpPr>
        <p:grpSpPr>
          <a:xfrm>
            <a:off x="231840" y="1130400"/>
            <a:ext cx="2971800" cy="1523880"/>
            <a:chOff x="231840" y="1130400"/>
            <a:chExt cx="2971800" cy="1523880"/>
          </a:xfrm>
        </p:grpSpPr>
        <p:sp>
          <p:nvSpPr>
            <p:cNvPr id="290" name="AutoShape 39"/>
            <p:cNvSpPr/>
            <p:nvPr/>
          </p:nvSpPr>
          <p:spPr>
            <a:xfrm>
              <a:off x="231840" y="1130400"/>
              <a:ext cx="2971800" cy="1523880"/>
            </a:xfrm>
            <a:prstGeom prst="sun">
              <a:avLst>
                <a:gd name="adj" fmla="val 191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0"/>
            <p:cNvSpPr/>
            <p:nvPr/>
          </p:nvSpPr>
          <p:spPr>
            <a:xfrm>
              <a:off x="898560" y="16351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ETA MEDITERRANÉ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1"/>
          <p:cNvGrpSpPr/>
          <p:nvPr/>
        </p:nvGrpSpPr>
        <p:grpSpPr>
          <a:xfrm>
            <a:off x="3492360" y="765000"/>
            <a:ext cx="2514600" cy="2667240"/>
            <a:chOff x="3492360" y="765000"/>
            <a:chExt cx="2514600" cy="2667240"/>
          </a:xfrm>
        </p:grpSpPr>
        <p:sp>
          <p:nvSpPr>
            <p:cNvPr id="293" name="AutoShape 42"/>
            <p:cNvSpPr/>
            <p:nvPr/>
          </p:nvSpPr>
          <p:spPr>
            <a:xfrm>
              <a:off x="3492360" y="765000"/>
              <a:ext cx="2514600" cy="2667240"/>
            </a:xfrm>
            <a:prstGeom prst="leftArrowCallout">
              <a:avLst>
                <a:gd name="adj1" fmla="val 26520"/>
                <a:gd name="adj2" fmla="val 26518"/>
                <a:gd name="adj3" fmla="val 16667"/>
                <a:gd name="adj4" fmla="val 666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43"/>
            <p:cNvSpPr/>
            <p:nvPr/>
          </p:nvSpPr>
          <p:spPr>
            <a:xfrm>
              <a:off x="4330440" y="841320"/>
              <a:ext cx="167652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ceite de ol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ere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es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egumb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Verdu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Fru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ocos productos cárnicos y lácte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4"/>
          <p:cNvGrpSpPr/>
          <p:nvPr/>
        </p:nvGrpSpPr>
        <p:grpSpPr>
          <a:xfrm>
            <a:off x="1763640" y="3213000"/>
            <a:ext cx="1953360" cy="1076400"/>
            <a:chOff x="1763640" y="3213000"/>
            <a:chExt cx="1953360" cy="1076400"/>
          </a:xfrm>
        </p:grpSpPr>
        <p:sp>
          <p:nvSpPr>
            <p:cNvPr id="296" name="Oval 45"/>
            <p:cNvSpPr/>
            <p:nvPr/>
          </p:nvSpPr>
          <p:spPr>
            <a:xfrm>
              <a:off x="1926360" y="3213000"/>
              <a:ext cx="1549800" cy="83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763640" y="3365280"/>
              <a:ext cx="1875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FACTORES BENEFICIO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47"/>
            <p:cNvCxnSpPr>
              <a:stCxn id="297" idx="2"/>
              <a:endCxn id="299" idx="1"/>
            </p:cNvCxnSpPr>
            <p:nvPr/>
          </p:nvCxnSpPr>
          <p:spPr>
            <a:xfrm flipH="1" rot="16200000">
              <a:off x="3005280" y="3577680"/>
              <a:ext cx="407160" cy="1017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0" name="Group 48"/>
          <p:cNvGrpSpPr/>
          <p:nvPr/>
        </p:nvGrpSpPr>
        <p:grpSpPr>
          <a:xfrm>
            <a:off x="4221000" y="3686040"/>
            <a:ext cx="4598640" cy="1706400"/>
            <a:chOff x="4221000" y="3686040"/>
            <a:chExt cx="4598640" cy="1706400"/>
          </a:xfrm>
        </p:grpSpPr>
        <p:sp>
          <p:nvSpPr>
            <p:cNvPr id="299" name="AutoShape 49"/>
            <p:cNvSpPr/>
            <p:nvPr/>
          </p:nvSpPr>
          <p:spPr>
            <a:xfrm>
              <a:off x="4221000" y="3746160"/>
              <a:ext cx="258840" cy="1379520"/>
            </a:xfrm>
            <a:custGeom>
              <a:avLst/>
              <a:gdLst>
                <a:gd name="textAreaLeft" fmla="*/ 165600 w 258840"/>
                <a:gd name="textAreaRight" fmla="*/ 259200 w 258840"/>
                <a:gd name="textAreaTop" fmla="*/ 35640 h 1379520"/>
                <a:gd name="textAreaBottom" fmla="*/ 1343880 h 137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0"/>
            <p:cNvSpPr/>
            <p:nvPr/>
          </p:nvSpPr>
          <p:spPr>
            <a:xfrm>
              <a:off x="4417920" y="3686040"/>
              <a:ext cx="4401720" cy="17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revención enfermedades cardiovasculare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Predominan las grasas insatu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revención del estreñimiento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porte de fib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reviene la obesidad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la mayor parte de la energía la aportan glúcidos complej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AutoShape 51"/>
          <p:cNvCxnSpPr>
            <a:stCxn id="290" idx="2"/>
            <a:endCxn id="296" idx="1"/>
          </p:cNvCxnSpPr>
          <p:nvPr/>
        </p:nvCxnSpPr>
        <p:spPr>
          <a:xfrm flipH="1" rot="16200000">
            <a:off x="1594440" y="2776320"/>
            <a:ext cx="681840" cy="437400"/>
          </a:xfrm>
          <a:prstGeom prst="curvedConnector5">
            <a:avLst>
              <a:gd name="adj1" fmla="val 40993"/>
              <a:gd name="adj2" fmla="val 50000"/>
              <a:gd name="adj3" fmla="val 40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Text Box 52"/>
          <p:cNvSpPr/>
          <p:nvPr/>
        </p:nvSpPr>
        <p:spPr>
          <a:xfrm>
            <a:off x="6340320" y="83340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 grasas insatu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6362640" y="119700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 glúcidos comple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4"/>
          <p:cNvSpPr/>
          <p:nvPr/>
        </p:nvSpPr>
        <p:spPr>
          <a:xfrm>
            <a:off x="6372360" y="146844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teínas con poco coleste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5"/>
          <p:cNvSpPr/>
          <p:nvPr/>
        </p:nvSpPr>
        <p:spPr>
          <a:xfrm>
            <a:off x="6300720" y="1827360"/>
            <a:ext cx="293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orte equilibrado de nutrientes y fi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6"/>
          <p:cNvSpPr/>
          <p:nvPr/>
        </p:nvSpPr>
        <p:spPr>
          <a:xfrm>
            <a:off x="6423120" y="249228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taminas, sales y fi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7"/>
          <p:cNvSpPr/>
          <p:nvPr/>
        </p:nvSpPr>
        <p:spPr>
          <a:xfrm>
            <a:off x="6443640" y="290844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cas grasas satu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4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inma</cp:lastModifiedBy>
  <dcterms:modified xsi:type="dcterms:W3CDTF">2017-11-01T11:38:39Z</dcterms:modified>
  <cp:revision>98</cp:revision>
  <dc:subject/>
  <dc:title>Diapositiva 1</dc:title>
</cp:coreProperties>
</file>